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30.png" ContentType="image/png"/>
  <Override PartName="/ppt/media/image35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7.png" ContentType="image/png"/>
  <Override PartName="/ppt/media/image48.jpeg" ContentType="image/jpeg"/>
  <Override PartName="/ppt/media/image44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1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CBF-F567-44C1-9246-8EDBB1DC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12A-461B-4DCD-9423-BEE73D2E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579D7-6251-40F1-AD9E-E96B18A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6867E-3E66-4A3D-8898-7335CDCE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FAF98-72AF-4841-9750-4C2AE1F1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D7258-9C75-4BDA-8450-ACFFC2DA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2281F-E71A-47D7-A47D-20CD1501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19BF3-66BD-4CBD-89DA-43C44E37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E4A58-EA96-4485-B448-01141285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B7355-0F20-4834-A20E-25CAA576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DB34D-EC50-4AB5-BEF7-61185FC0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E184D-E4AE-451C-8493-2E76EF0E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903-74BB-4781-9D4C-F5F3B136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31509-887A-4BE3-A7D5-D9B2A646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A6A94-375D-4383-B06A-069756C0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E256A-4775-43DC-9E5C-8969E0D3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1C81A-0A6E-4139-8B5F-749E604D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92EC7-621A-4F7A-BFE8-3BD3855D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B167B-B3CD-424B-AF72-6CC1ACC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905A7-E407-4885-AE0B-C25D5122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1111A-FC91-49C9-A241-E34C8E9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C2702-4162-45ED-9327-BC6AF88A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BE67F-61C0-4BD4-87E4-63CBC2EF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2BC-3F7E-4F25-BA49-0ABA4D34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60BF9-2B46-45C4-83FE-DD44EE51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2A074-9873-4B3A-A670-B082478E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B6FF0-3A73-4717-8C85-FE631514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CE1DF-C472-49B2-82FC-D08CE605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24F85-E4F1-49A0-BCDA-F40F769E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7B624-4ED5-454C-8995-9830E4D5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54BBE-A470-48AD-B245-B1E4A3AE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97BF7-B2B2-48A6-9826-313717B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04603-B25A-4605-9008-4003CE42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62EBE-7F08-4239-AAA7-93001E3F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DE0D-4A57-48DB-8288-B28866D0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0A8F8-CFC8-4FCD-A259-E1A9DBC4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2478A-6174-48BC-9F1C-1731B721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E1F0D-C0A6-4AE7-8F1A-E2E226B8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450AE-A215-478A-9CCA-1E3DA373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BEAE2-CC14-496F-A793-97000FFD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70C14-3967-4E01-B4D6-C598225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BCDBE-DCCC-4984-AA52-E55DCEF2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0999F-BCD7-49A8-9F19-9B2BF09C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B4C48-7A2D-4B8C-B34F-6B7B78F2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85693-C6B8-4FA5-A3EB-F168B05E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B194-4947-4D0F-808B-455895F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2E5DE-113B-4AB0-B95D-F2CE870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4D873-F472-477A-A263-39F18EC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44AC1-EAC1-47B2-A8EE-14CC8D2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E03A3-6DB5-488F-9407-21BD5C02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66DA3-F2CD-45B4-9BED-91B2558B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826D-43F0-4523-83AF-8D6BC083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A981-4803-47BC-960D-FDA1E755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AE98-E60C-4896-99F0-87735111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6A7E-E7C4-4E0C-9D5B-58BE8AF0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3FAA-1E3E-4D4F-8420-29262D8C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50D-43A5-406E-A9CC-C07B6BBF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3988-8C19-4A56-883B-B9FD977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ACFB-60C0-4BAA-BF2F-557E5C12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2C33-79B3-44D9-B2F3-F9F346EA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EF69-0A0B-4A9B-80A2-E3B3756E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FE35-B913-41DF-B975-D7C34C00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CF48-AE5D-4652-A6E9-746B5ACB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C9BC-138D-4B9C-A812-6D336043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35B5-78CC-485E-B5C6-AF46F861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163F-0620-4380-AFBF-8B2EDCF8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81CB-A1BF-45E9-98BF-0F1B7A96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919-527B-442F-9E7A-D192BF1A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6719-16A5-41FB-AAE2-6C928309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0E1E-612D-4538-A297-681251AC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9DA0-B020-46AB-A18B-8CD6B35F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3432-5B6F-4EE0-BCD5-672D0038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E005-BED2-426D-BBE7-BA7755DD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A6D8B-349F-49A9-B3B5-BE833843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02E5-85EA-416D-9570-12AEBB87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9083F-435E-4E2B-9E46-AAE40F0A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006E0-C829-43D6-92FC-29C443B7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B570-D9BB-436F-A9B8-AF9B6294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BF2-C6FA-4B1C-B4A8-2F8C57D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D95EF-C984-4440-9656-B8ACC674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03F1-0079-40BD-ABDE-C48C5165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DFE6-E8D3-4EB5-A94C-CF7CCF70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2762-E82B-45CF-9A1F-E78E307A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E0C17-3F03-461A-AACD-9A1A25B9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F46B-D1AC-45C0-AF85-25E63EC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7FCB-1D8C-4CD7-97C6-FC8D5498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D085-33FB-4499-A09B-6BCAA155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1A1B-0188-4A30-8931-FBB029EA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3D47-8EFD-4906-998B-C25AB42E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9BB-744B-4582-BD24-4584FE63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F0BE-93E6-4D97-96B0-BFE4AC19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999EC-194A-4B17-ADE2-5EF4F261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2BF8C-5DCE-46ED-B8B6-66F3BD8D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D9C1-604A-45EE-9082-60130805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317CB-0E85-476C-A3F1-EEB4F712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6388-3653-4A59-98AD-CB86C9F2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DE35-530F-4126-B97D-30FC7EA1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0CCF-CB18-440D-8909-0F44DD4D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F995-D5A1-4A87-BCB6-5EA447AC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D5A7D-DB53-44C9-B299-F035F775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88F-E077-42B2-98A6-05C19FC1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08EB2-1AEF-4D23-826D-8BCC0C35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D118F-37D7-4E02-B60E-02DAFCEB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4062F-ABB0-4DCA-BD72-2E94A3F8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6A013-40D9-4466-BEA4-CB9C4BC4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63DE6-3287-4314-B652-20E6CCE4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D983-1B42-4F91-9974-20D29626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F711D-831A-4098-B2E5-E7237CB6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5D17E-ABE0-49DB-847E-4DE1438C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5E579-F6F4-410B-9982-EAC87C5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FFFFB-07BD-475C-8BEF-98B5BC5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51F-571C-49BC-BC0D-07EC5766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F8C54-8F20-4E05-ABE3-81EE86AB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85D8F-7306-41BE-8D70-FF02A376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869DE-CECA-48B0-94BF-460F45F3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418C-B521-413A-AF9A-42A6218B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30DB-F6B9-48EB-A0C3-1B5707DC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9082D-7B85-4590-926B-0581A0ED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BC06B-D9F0-4FC5-B3EC-3FE5C505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6FE7-C534-4D85-82F6-4A365802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9A2E2-F792-4EBF-91DD-109D5510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46EB1-4EA8-4D65-BF51-DA26289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F06-EB80-4DA3-B2E8-324EA3D1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9D617-057E-403E-A061-15FD9DE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F134-16E9-461C-8F29-3B37EE8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FFBB-F812-448D-8ABB-05BDE11F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DA8CB-A18B-4356-B813-A3AF3BD2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AD03D-A757-4C61-A9D3-E8A1621F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2223E-D5B0-4BCE-ABFF-D94A9180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E6C90-BA7B-4C79-8A55-63F2565B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423B6-D8FE-475F-9D48-BFF8D800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99D45-C012-4AD2-8EA4-24C31EB8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D9CBC-4ABE-4091-B9B6-0B6D75A3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91B-4AE3-4411-B815-3884F310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7567-BE77-42D6-9340-FEEC3795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6F3E-5F0A-4466-A387-BC3DCC2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2711-FA1F-4535-A23D-AC6DA60C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F6614-F286-4E9F-903A-85DD647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2AE43-68B5-448D-83D3-EBCFCD5F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2C856-C29B-4F49-99F9-94E68BCD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67F67-882B-4D39-940A-9C12673E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2DFFF-6F25-4694-B903-48E05F2B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685FD-5937-4D71-AA6D-4D289FF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02EC8-4329-41DE-A919-8FBB4AB3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0BD2-352A-428A-BBE0-582208B79B98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E06D-63BE-49DB-9C20-6D73C478EBB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2884-196A-4972-985E-6CBEE317362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BD24-824D-4671-BAD3-CAD88815A56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FD61-A41C-4E62-8A18-9AA23C06E91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C4E0-46FD-40BE-9D5B-FF07B9A6EFC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8688-20C2-465E-8765-C26C5A7A7431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DD41-DC4B-4631-8EC9-D4F6EE57CD1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239B-A966-4CDF-9636-972DE808400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DDCC-C3D4-4A36-B774-9973431930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4215-D568-499C-AC35-AABACD8F715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F756-4134-4EFC-B9CA-B95B9EAFA1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839-53EA-4457-8F51-5DC08D4203D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80E1-89CA-4850-B13E-3B286F3170C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C8BA-FB08-4950-B2D3-7510CFB949B3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3813-BA32-4041-87FC-5204DDF1703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6A2B-17A7-4DED-93F3-C4CFE9344A4A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9E4B-D18C-43C8-82C5-89CF2D087DF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936D-89B5-49B8-872D-1A16AD2D072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D35D-07F8-4205-B02C-E42C25195C3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8D41-128B-4E05-9478-7C44C9058DC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7E78-EF15-4721-8D0A-F2796DB3C1C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F378-EB27-408F-9720-B8793E966F8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5881-A627-47EE-8AEC-76406E81BC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&#38134;&#27827;&#31995;.rm" TargetMode="External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pic/1/1175062167556317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75" descr=""/>
          <p:cNvPicPr/>
          <p:nvPr/>
        </p:nvPicPr>
        <p:blipFill>
          <a:blip r:embed="rId1"/>
          <a:stretch/>
        </p:blipFill>
        <p:spPr>
          <a:xfrm>
            <a:off x="2711520" y="0"/>
            <a:ext cx="6696000" cy="6870600"/>
          </a:xfrm>
          <a:prstGeom prst="rect">
            <a:avLst/>
          </a:prstGeom>
          <a:ln w="0">
            <a:noFill/>
          </a:ln>
        </p:spPr>
      </p:pic>
      <p:pic>
        <p:nvPicPr>
          <p:cNvPr id="507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8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536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537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文本框 76"/>
          <p:cNvSpPr/>
          <p:nvPr/>
        </p:nvSpPr>
        <p:spPr>
          <a:xfrm>
            <a:off x="3359160" y="2712960"/>
            <a:ext cx="544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ffff"/>
                </a:solidFill>
                <a:uFillTx/>
                <a:latin typeface="Billboard"/>
                <a:ea typeface="张海山锐谐体"/>
              </a:rPr>
              <a:t>中国古代神话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仙女座星"/>
          <p:cNvPicPr/>
          <p:nvPr/>
        </p:nvPicPr>
        <p:blipFill>
          <a:blip r:embed="rId1"/>
          <a:stretch/>
        </p:blipFill>
        <p:spPr>
          <a:xfrm>
            <a:off x="9806040" y="2349360"/>
            <a:ext cx="1801800" cy="2087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宝女座河外星系"/>
          <p:cNvPicPr/>
          <p:nvPr/>
        </p:nvPicPr>
        <p:blipFill>
          <a:blip r:embed="rId2"/>
          <a:stretch/>
        </p:blipFill>
        <p:spPr>
          <a:xfrm>
            <a:off x="5124600" y="216000"/>
            <a:ext cx="2305080" cy="1989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sundiespn11-thumb"/>
          <p:cNvPicPr/>
          <p:nvPr/>
        </p:nvPicPr>
        <p:blipFill>
          <a:blip r:embed="rId3"/>
          <a:stretch/>
        </p:blipFill>
        <p:spPr>
          <a:xfrm>
            <a:off x="7500960" y="4581360"/>
            <a:ext cx="2233440" cy="22323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sundiespn02-thumb"/>
          <p:cNvPicPr/>
          <p:nvPr/>
        </p:nvPicPr>
        <p:blipFill>
          <a:blip r:embed="rId4"/>
          <a:stretch/>
        </p:blipFill>
        <p:spPr>
          <a:xfrm>
            <a:off x="2712960" y="2276640"/>
            <a:ext cx="2324160" cy="2232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星系"/>
          <p:cNvPicPr/>
          <p:nvPr/>
        </p:nvPicPr>
        <p:blipFill>
          <a:blip r:embed="rId5"/>
          <a:stretch/>
        </p:blipFill>
        <p:spPr>
          <a:xfrm>
            <a:off x="7500960" y="2349360"/>
            <a:ext cx="2233440" cy="2159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蝌蚪星系"/>
          <p:cNvPicPr/>
          <p:nvPr/>
        </p:nvPicPr>
        <p:blipFill>
          <a:blip r:embed="rId6"/>
          <a:stretch/>
        </p:blipFill>
        <p:spPr>
          <a:xfrm>
            <a:off x="7572240" y="216000"/>
            <a:ext cx="2089440" cy="1989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漩涡星系"/>
          <p:cNvPicPr/>
          <p:nvPr/>
        </p:nvPicPr>
        <p:blipFill>
          <a:blip r:embed="rId7"/>
          <a:stretch/>
        </p:blipFill>
        <p:spPr>
          <a:xfrm>
            <a:off x="2712960" y="216000"/>
            <a:ext cx="2268720" cy="20048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猎户座星系"/>
          <p:cNvPicPr/>
          <p:nvPr/>
        </p:nvPicPr>
        <p:blipFill>
          <a:blip r:embed="rId8"/>
          <a:stretch/>
        </p:blipFill>
        <p:spPr>
          <a:xfrm>
            <a:off x="5124600" y="4149720"/>
            <a:ext cx="2232000" cy="2735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0" descr="螺旋星系2"/>
          <p:cNvPicPr/>
          <p:nvPr/>
        </p:nvPicPr>
        <p:blipFill>
          <a:blip r:embed="rId9"/>
          <a:stretch/>
        </p:blipFill>
        <p:spPr>
          <a:xfrm>
            <a:off x="9806040" y="4581360"/>
            <a:ext cx="1801800" cy="2159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三角座星系"/>
          <p:cNvPicPr/>
          <p:nvPr/>
        </p:nvPicPr>
        <p:blipFill>
          <a:blip r:embed="rId10"/>
          <a:stretch/>
        </p:blipFill>
        <p:spPr>
          <a:xfrm>
            <a:off x="9590040" y="216000"/>
            <a:ext cx="2266920" cy="198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2" descr="椭圆星系"/>
          <p:cNvPicPr/>
          <p:nvPr/>
        </p:nvPicPr>
        <p:blipFill>
          <a:blip r:embed="rId11"/>
          <a:stretch/>
        </p:blipFill>
        <p:spPr>
          <a:xfrm>
            <a:off x="5124600" y="2276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13"/>
          <p:cNvSpPr/>
          <p:nvPr/>
        </p:nvSpPr>
        <p:spPr>
          <a:xfrm>
            <a:off x="7716960" y="177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蝌蚪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9950400" y="184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三角座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3" name="Picture 15" descr="河外星系1a1"/>
          <p:cNvPicPr/>
          <p:nvPr/>
        </p:nvPicPr>
        <p:blipFill>
          <a:blip r:embed="rId12"/>
          <a:stretch/>
        </p:blipFill>
        <p:spPr>
          <a:xfrm>
            <a:off x="2712960" y="4581360"/>
            <a:ext cx="2268720" cy="223236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6"/>
          <p:cNvSpPr/>
          <p:nvPr/>
        </p:nvSpPr>
        <p:spPr>
          <a:xfrm>
            <a:off x="5124600" y="17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宝女座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Text Box 17"/>
          <p:cNvSpPr/>
          <p:nvPr/>
        </p:nvSpPr>
        <p:spPr>
          <a:xfrm>
            <a:off x="2712960" y="177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漩涡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18"/>
          <p:cNvSpPr/>
          <p:nvPr/>
        </p:nvSpPr>
        <p:spPr>
          <a:xfrm>
            <a:off x="1030932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仙女座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Text Box 19"/>
          <p:cNvSpPr/>
          <p:nvPr/>
        </p:nvSpPr>
        <p:spPr>
          <a:xfrm>
            <a:off x="75722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环状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Text Box 20"/>
          <p:cNvSpPr/>
          <p:nvPr/>
        </p:nvSpPr>
        <p:spPr>
          <a:xfrm>
            <a:off x="5124600" y="407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椭圆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2712960" y="407664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不规则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Text Box 22"/>
          <p:cNvSpPr/>
          <p:nvPr/>
        </p:nvSpPr>
        <p:spPr>
          <a:xfrm>
            <a:off x="2712960" y="6381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河外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5197320" y="6381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猎户座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7572240" y="6308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草帽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9950400" y="638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螺旋星系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b87c05265c779747908f9d38"/>
          <p:cNvPicPr/>
          <p:nvPr/>
        </p:nvPicPr>
        <p:blipFill>
          <a:blip r:embed="rId1"/>
          <a:stretch/>
        </p:blipFill>
        <p:spPr>
          <a:xfrm>
            <a:off x="27129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979800" y="328680"/>
            <a:ext cx="33019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Arial"/>
              </a:rPr>
              <a:t>膨胀的宇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4" descr="3374733F5817B46D1FE7EF268356DEAA"/>
          <p:cNvPicPr/>
          <p:nvPr/>
        </p:nvPicPr>
        <p:blipFill>
          <a:blip r:embed="rId2"/>
          <a:stretch/>
        </p:blipFill>
        <p:spPr>
          <a:xfrm>
            <a:off x="8761320" y="0"/>
            <a:ext cx="190656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712960" y="5345280"/>
            <a:ext cx="91440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在人们用天文望远镜已观测到距我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亿光年的宇宙空间深处，但仍没有看到宇宙的边缘，而且科学家还发现宇宙正处在膨胀之中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080629105776115"/>
          <p:cNvPicPr/>
          <p:nvPr/>
        </p:nvPicPr>
        <p:blipFill>
          <a:blip r:embed="rId1"/>
          <a:stretch/>
        </p:blipFill>
        <p:spPr>
          <a:xfrm>
            <a:off x="2712960" y="-9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712960" y="580536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古以来，人类就充满了对宇宙的幻想，向往着飞向太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278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Arial"/>
              </a:rPr>
              <a:t>人类对宇宙的探索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星空7"/>
          <p:cNvPicPr/>
          <p:nvPr/>
        </p:nvPicPr>
        <p:blipFill>
          <a:blip r:embed="rId1"/>
          <a:stretch/>
        </p:blipFill>
        <p:spPr>
          <a:xfrm>
            <a:off x="623880" y="695160"/>
            <a:ext cx="10922040" cy="6162840"/>
          </a:xfrm>
          <a:prstGeom prst="rect">
            <a:avLst/>
          </a:prstGeom>
          <a:ln w="0">
            <a:noFill/>
          </a:ln>
        </p:spPr>
      </p:pic>
      <p:sp>
        <p:nvSpPr>
          <p:cNvPr id="622" name="等腰三角形 8"/>
          <p:cNvSpPr/>
          <p:nvPr/>
        </p:nvSpPr>
        <p:spPr>
          <a:xfrm rot="16200000">
            <a:off x="3422520" y="3682440"/>
            <a:ext cx="84132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等腰三角形 3"/>
          <p:cNvSpPr/>
          <p:nvPr/>
        </p:nvSpPr>
        <p:spPr>
          <a:xfrm rot="10800000">
            <a:off x="1350720" y="2059920"/>
            <a:ext cx="30733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矩形 1"/>
          <p:cNvSpPr/>
          <p:nvPr/>
        </p:nvSpPr>
        <p:spPr>
          <a:xfrm>
            <a:off x="696960" y="2421000"/>
            <a:ext cx="5327640" cy="109944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2f2f2"/>
                </a:solidFill>
                <a:uFillTx/>
                <a:latin typeface="Arial"/>
                <a:ea typeface="宋体"/>
              </a:rPr>
              <a:t>宇宙生命之谜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3" descr="星空1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950080"/>
          </a:xfrm>
          <a:prstGeom prst="rect">
            <a:avLst/>
          </a:prstGeom>
          <a:ln w="0">
            <a:noFill/>
          </a:ln>
        </p:spPr>
      </p:pic>
      <p:sp>
        <p:nvSpPr>
          <p:cNvPr id="626" name="矩形 7"/>
          <p:cNvSpPr/>
          <p:nvPr/>
        </p:nvSpPr>
        <p:spPr>
          <a:xfrm>
            <a:off x="0" y="1197000"/>
            <a:ext cx="1164096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等腰三角形 10"/>
          <p:cNvSpPr/>
          <p:nvPr/>
        </p:nvSpPr>
        <p:spPr>
          <a:xfrm rot="16200000">
            <a:off x="2538360" y="2131560"/>
            <a:ext cx="344520" cy="2494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等腰三角形 11"/>
          <p:cNvSpPr/>
          <p:nvPr/>
        </p:nvSpPr>
        <p:spPr>
          <a:xfrm rot="10800000">
            <a:off x="1671120" y="1320480"/>
            <a:ext cx="1359000" cy="1171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矩形 12"/>
          <p:cNvSpPr/>
          <p:nvPr/>
        </p:nvSpPr>
        <p:spPr>
          <a:xfrm>
            <a:off x="1271520" y="1644480"/>
            <a:ext cx="252108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2f2f2"/>
                </a:solidFill>
                <a:uFillTx/>
                <a:latin typeface="Arial"/>
                <a:ea typeface="宋体"/>
              </a:rPr>
              <a:t>宇宙生命之谜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文本框 13"/>
          <p:cNvSpPr/>
          <p:nvPr/>
        </p:nvSpPr>
        <p:spPr>
          <a:xfrm>
            <a:off x="5303880" y="234936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谜：还没弄明白或难以理解的事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宇宙：谜的范围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生命：谜的内容或命题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文本框 16"/>
          <p:cNvSpPr/>
          <p:nvPr/>
        </p:nvSpPr>
        <p:spPr>
          <a:xfrm>
            <a:off x="5303880" y="475920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宇宙生命之谜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在宇宙中，有关于生命的未解的事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等腰三角形 19"/>
          <p:cNvSpPr/>
          <p:nvPr/>
        </p:nvSpPr>
        <p:spPr>
          <a:xfrm rot="16200000">
            <a:off x="4897440" y="3347640"/>
            <a:ext cx="344520" cy="2494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等腰三角形 20"/>
          <p:cNvSpPr/>
          <p:nvPr/>
        </p:nvSpPr>
        <p:spPr>
          <a:xfrm rot="16200000">
            <a:off x="4897440" y="2539440"/>
            <a:ext cx="344520" cy="2494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等腰三角形 21"/>
          <p:cNvSpPr/>
          <p:nvPr/>
        </p:nvSpPr>
        <p:spPr>
          <a:xfrm rot="16200000">
            <a:off x="4871160" y="4151880"/>
            <a:ext cx="34416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等腰三角形 22"/>
          <p:cNvSpPr/>
          <p:nvPr/>
        </p:nvSpPr>
        <p:spPr>
          <a:xfrm rot="16200000">
            <a:off x="4897440" y="4903200"/>
            <a:ext cx="344520" cy="2494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ush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4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图片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962680"/>
          </a:xfrm>
          <a:prstGeom prst="rect">
            <a:avLst/>
          </a:prstGeom>
          <a:ln w="0">
            <a:noFill/>
          </a:ln>
        </p:spPr>
      </p:pic>
      <p:sp>
        <p:nvSpPr>
          <p:cNvPr id="639" name="文本框 38"/>
          <p:cNvSpPr/>
          <p:nvPr/>
        </p:nvSpPr>
        <p:spPr>
          <a:xfrm>
            <a:off x="479520" y="1125360"/>
            <a:ext cx="21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重点字词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0" name="组合 3"/>
          <p:cNvGrpSpPr/>
          <p:nvPr/>
        </p:nvGrpSpPr>
        <p:grpSpPr>
          <a:xfrm>
            <a:off x="196920" y="182520"/>
            <a:ext cx="239760" cy="347760"/>
            <a:chOff x="196920" y="182520"/>
            <a:chExt cx="239760" cy="347760"/>
          </a:xfrm>
        </p:grpSpPr>
        <p:sp>
          <p:nvSpPr>
            <p:cNvPr id="641" name="菱形 39"/>
            <p:cNvSpPr/>
            <p:nvPr/>
          </p:nvSpPr>
          <p:spPr>
            <a:xfrm>
              <a:off x="196920" y="18252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2" name="菱形 40"/>
            <p:cNvSpPr/>
            <p:nvPr/>
          </p:nvSpPr>
          <p:spPr>
            <a:xfrm>
              <a:off x="196920" y="29160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43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52" name="组合 129"/>
          <p:cNvGrpSpPr/>
          <p:nvPr/>
        </p:nvGrpSpPr>
        <p:grpSpPr>
          <a:xfrm>
            <a:off x="1198440" y="2009880"/>
            <a:ext cx="720720" cy="1414440"/>
            <a:chOff x="1198440" y="2009880"/>
            <a:chExt cx="720720" cy="1414440"/>
          </a:xfrm>
        </p:grpSpPr>
        <p:sp>
          <p:nvSpPr>
            <p:cNvPr id="653" name="Oval 92"/>
            <p:cNvSpPr/>
            <p:nvPr/>
          </p:nvSpPr>
          <p:spPr>
            <a:xfrm>
              <a:off x="1198440" y="2009880"/>
              <a:ext cx="72072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4" name="Freeform 5"/>
            <p:cNvSpPr/>
            <p:nvPr/>
          </p:nvSpPr>
          <p:spPr>
            <a:xfrm>
              <a:off x="1338840" y="2148840"/>
              <a:ext cx="439560" cy="440640"/>
            </a:xfrm>
            <a:custGeom>
              <a:avLst/>
              <a:gdLst/>
              <a:ahLst/>
              <a:rect l="l" t="t" r="r" b="b"/>
              <a:pathLst>
                <a:path w="246" h="247">
                  <a:moveTo>
                    <a:pt x="234" y="13"/>
                  </a:moveTo>
                  <a:cubicBezTo>
                    <a:pt x="221" y="0"/>
                    <a:pt x="196" y="11"/>
                    <a:pt x="175" y="35"/>
                  </a:cubicBezTo>
                  <a:cubicBezTo>
                    <a:pt x="153" y="60"/>
                    <a:pt x="153" y="60"/>
                    <a:pt x="153" y="6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65" y="159"/>
                    <a:pt x="65" y="159"/>
                    <a:pt x="65" y="159"/>
                  </a:cubicBezTo>
                  <a:cubicBezTo>
                    <a:pt x="61" y="164"/>
                    <a:pt x="57" y="168"/>
                    <a:pt x="54" y="172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47" y="200"/>
                    <a:pt x="47" y="200"/>
                    <a:pt x="47" y="200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86" y="235"/>
                    <a:pt x="86" y="235"/>
                    <a:pt x="86" y="235"/>
                  </a:cubicBezTo>
                  <a:cubicBezTo>
                    <a:pt x="75" y="193"/>
                    <a:pt x="75" y="193"/>
                    <a:pt x="75" y="193"/>
                  </a:cubicBezTo>
                  <a:cubicBezTo>
                    <a:pt x="79" y="190"/>
                    <a:pt x="83" y="186"/>
                    <a:pt x="88" y="182"/>
                  </a:cubicBezTo>
                  <a:cubicBezTo>
                    <a:pt x="138" y="140"/>
                    <a:pt x="138" y="140"/>
                    <a:pt x="138" y="140"/>
                  </a:cubicBezTo>
                  <a:cubicBezTo>
                    <a:pt x="192" y="242"/>
                    <a:pt x="192" y="242"/>
                    <a:pt x="192" y="242"/>
                  </a:cubicBezTo>
                  <a:cubicBezTo>
                    <a:pt x="211" y="223"/>
                    <a:pt x="211" y="223"/>
                    <a:pt x="211" y="223"/>
                  </a:cubicBezTo>
                  <a:cubicBezTo>
                    <a:pt x="187" y="94"/>
                    <a:pt x="187" y="94"/>
                    <a:pt x="187" y="94"/>
                  </a:cubicBezTo>
                  <a:cubicBezTo>
                    <a:pt x="212" y="72"/>
                    <a:pt x="212" y="72"/>
                    <a:pt x="212" y="72"/>
                  </a:cubicBezTo>
                  <a:cubicBezTo>
                    <a:pt x="236" y="51"/>
                    <a:pt x="246" y="25"/>
                    <a:pt x="23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5" name="TextBox 28"/>
            <p:cNvSpPr/>
            <p:nvPr/>
          </p:nvSpPr>
          <p:spPr>
            <a:xfrm>
              <a:off x="1351800" y="28429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揭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6" name="组合 136"/>
          <p:cNvGrpSpPr/>
          <p:nvPr/>
        </p:nvGrpSpPr>
        <p:grpSpPr>
          <a:xfrm>
            <a:off x="3476160" y="2009880"/>
            <a:ext cx="719640" cy="1414440"/>
            <a:chOff x="3476160" y="2009880"/>
            <a:chExt cx="719640" cy="1414440"/>
          </a:xfrm>
        </p:grpSpPr>
        <p:sp>
          <p:nvSpPr>
            <p:cNvPr id="657" name="Oval 126"/>
            <p:cNvSpPr/>
            <p:nvPr/>
          </p:nvSpPr>
          <p:spPr>
            <a:xfrm>
              <a:off x="3476160" y="200988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658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8"/>
            <p:cNvSpPr/>
            <p:nvPr/>
          </p:nvSpPr>
          <p:spPr>
            <a:xfrm>
              <a:off x="3493800" y="28429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嫦娥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0" name="组合 146"/>
          <p:cNvGrpSpPr/>
          <p:nvPr/>
        </p:nvGrpSpPr>
        <p:grpSpPr>
          <a:xfrm>
            <a:off x="5743080" y="2009880"/>
            <a:ext cx="726120" cy="1414440"/>
            <a:chOff x="5743080" y="2009880"/>
            <a:chExt cx="726120" cy="1414440"/>
          </a:xfrm>
        </p:grpSpPr>
        <p:sp>
          <p:nvSpPr>
            <p:cNvPr id="661" name="Oval 119"/>
            <p:cNvSpPr/>
            <p:nvPr/>
          </p:nvSpPr>
          <p:spPr>
            <a:xfrm>
              <a:off x="5743080" y="200988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662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680"/>
              <a:ext cx="41400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extBox 28"/>
            <p:cNvSpPr/>
            <p:nvPr/>
          </p:nvSpPr>
          <p:spPr>
            <a:xfrm>
              <a:off x="5800680" y="28429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蟠桃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4" name="组合 157"/>
          <p:cNvGrpSpPr/>
          <p:nvPr/>
        </p:nvGrpSpPr>
        <p:grpSpPr>
          <a:xfrm>
            <a:off x="7996320" y="2009880"/>
            <a:ext cx="721080" cy="1414440"/>
            <a:chOff x="7996320" y="2009880"/>
            <a:chExt cx="721080" cy="1414440"/>
          </a:xfrm>
        </p:grpSpPr>
        <p:sp>
          <p:nvSpPr>
            <p:cNvPr id="665" name="Oval 132"/>
            <p:cNvSpPr/>
            <p:nvPr/>
          </p:nvSpPr>
          <p:spPr>
            <a:xfrm>
              <a:off x="7996320" y="2009880"/>
              <a:ext cx="72108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666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920"/>
              <a:ext cx="39060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Box 28"/>
            <p:cNvSpPr/>
            <p:nvPr/>
          </p:nvSpPr>
          <p:spPr>
            <a:xfrm>
              <a:off x="8105760" y="284292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沧海一粟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8" name="组合 166"/>
          <p:cNvGrpSpPr/>
          <p:nvPr/>
        </p:nvGrpSpPr>
        <p:grpSpPr>
          <a:xfrm>
            <a:off x="10128960" y="2009880"/>
            <a:ext cx="770400" cy="1414440"/>
            <a:chOff x="10128960" y="2009880"/>
            <a:chExt cx="770400" cy="1414440"/>
          </a:xfrm>
        </p:grpSpPr>
        <p:sp>
          <p:nvSpPr>
            <p:cNvPr id="669" name="Oval 137"/>
            <p:cNvSpPr/>
            <p:nvPr/>
          </p:nvSpPr>
          <p:spPr>
            <a:xfrm>
              <a:off x="10180800" y="2009880"/>
              <a:ext cx="71856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670" name="Group 138" descr=""/>
            <p:cNvPicPr/>
            <p:nvPr/>
          </p:nvPicPr>
          <p:blipFill>
            <a:blip r:embed="rId5"/>
            <a:stretch/>
          </p:blipFill>
          <p:spPr>
            <a:xfrm>
              <a:off x="10346040" y="2170800"/>
              <a:ext cx="38916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TextBox 28"/>
            <p:cNvSpPr/>
            <p:nvPr/>
          </p:nvSpPr>
          <p:spPr>
            <a:xfrm>
              <a:off x="10128960" y="28429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轨道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72" name="组合 175"/>
          <p:cNvGrpSpPr/>
          <p:nvPr/>
        </p:nvGrpSpPr>
        <p:grpSpPr>
          <a:xfrm>
            <a:off x="1199520" y="4186080"/>
            <a:ext cx="720720" cy="1444320"/>
            <a:chOff x="1199520" y="4186080"/>
            <a:chExt cx="720720" cy="1444320"/>
          </a:xfrm>
        </p:grpSpPr>
        <p:sp>
          <p:nvSpPr>
            <p:cNvPr id="673" name="Oval 165"/>
            <p:cNvSpPr/>
            <p:nvPr/>
          </p:nvSpPr>
          <p:spPr>
            <a:xfrm>
              <a:off x="1199520" y="4186080"/>
              <a:ext cx="720720" cy="7207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674" name="Group 166" descr=""/>
            <p:cNvPicPr/>
            <p:nvPr/>
          </p:nvPicPr>
          <p:blipFill>
            <a:blip r:embed="rId6"/>
            <a:stretch/>
          </p:blipFill>
          <p:spPr>
            <a:xfrm>
              <a:off x="1329480" y="4314960"/>
              <a:ext cx="463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TextBox 28"/>
            <p:cNvSpPr/>
            <p:nvPr/>
          </p:nvSpPr>
          <p:spPr>
            <a:xfrm>
              <a:off x="1230840" y="50490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枯萎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76" name="组合 187"/>
          <p:cNvGrpSpPr/>
          <p:nvPr/>
        </p:nvGrpSpPr>
        <p:grpSpPr>
          <a:xfrm>
            <a:off x="3476160" y="4186080"/>
            <a:ext cx="719640" cy="1444320"/>
            <a:chOff x="3476160" y="4186080"/>
            <a:chExt cx="719640" cy="1444320"/>
          </a:xfrm>
        </p:grpSpPr>
        <p:sp>
          <p:nvSpPr>
            <p:cNvPr id="677" name="Oval 155"/>
            <p:cNvSpPr/>
            <p:nvPr/>
          </p:nvSpPr>
          <p:spPr>
            <a:xfrm>
              <a:off x="3476160" y="4186080"/>
              <a:ext cx="719640" cy="7207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678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440"/>
              <a:ext cx="432720" cy="4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Box 28"/>
            <p:cNvSpPr/>
            <p:nvPr/>
          </p:nvSpPr>
          <p:spPr>
            <a:xfrm>
              <a:off x="3493800" y="50490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稀薄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80" name="组合 201"/>
          <p:cNvGrpSpPr/>
          <p:nvPr/>
        </p:nvGrpSpPr>
        <p:grpSpPr>
          <a:xfrm>
            <a:off x="5743080" y="4186080"/>
            <a:ext cx="726120" cy="1444320"/>
            <a:chOff x="5743080" y="4186080"/>
            <a:chExt cx="726120" cy="1444320"/>
          </a:xfrm>
        </p:grpSpPr>
        <p:sp>
          <p:nvSpPr>
            <p:cNvPr id="681" name="Oval 152"/>
            <p:cNvSpPr/>
            <p:nvPr/>
          </p:nvSpPr>
          <p:spPr>
            <a:xfrm>
              <a:off x="5743080" y="4186080"/>
              <a:ext cx="719640" cy="7207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5900400" y="4330080"/>
              <a:ext cx="405000" cy="43200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60" y="0"/>
                  </a:moveTo>
                  <a:cubicBezTo>
                    <a:pt x="27" y="0"/>
                    <a:pt x="0" y="27"/>
                    <a:pt x="0" y="60"/>
                  </a:cubicBezTo>
                  <a:cubicBezTo>
                    <a:pt x="0" y="62"/>
                    <a:pt x="2" y="64"/>
                    <a:pt x="4" y="64"/>
                  </a:cubicBezTo>
                  <a:cubicBezTo>
                    <a:pt x="56" y="64"/>
                    <a:pt x="56" y="64"/>
                    <a:pt x="56" y="64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6"/>
                    <a:pt x="51" y="120"/>
                    <a:pt x="46" y="120"/>
                  </a:cubicBezTo>
                  <a:cubicBezTo>
                    <a:pt x="40" y="120"/>
                    <a:pt x="36" y="116"/>
                    <a:pt x="36" y="111"/>
                  </a:cubicBezTo>
                  <a:cubicBezTo>
                    <a:pt x="36" y="108"/>
                    <a:pt x="34" y="107"/>
                    <a:pt x="32" y="107"/>
                  </a:cubicBezTo>
                  <a:cubicBezTo>
                    <a:pt x="30" y="107"/>
                    <a:pt x="28" y="108"/>
                    <a:pt x="28" y="111"/>
                  </a:cubicBezTo>
                  <a:cubicBezTo>
                    <a:pt x="28" y="120"/>
                    <a:pt x="36" y="128"/>
                    <a:pt x="46" y="128"/>
                  </a:cubicBezTo>
                  <a:cubicBezTo>
                    <a:pt x="56" y="128"/>
                    <a:pt x="64" y="120"/>
                    <a:pt x="64" y="111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8" y="64"/>
                    <a:pt x="120" y="62"/>
                    <a:pt x="120" y="60"/>
                  </a:cubicBezTo>
                  <a:cubicBezTo>
                    <a:pt x="120" y="27"/>
                    <a:pt x="93" y="0"/>
                    <a:pt x="60" y="0"/>
                  </a:cubicBezTo>
                  <a:close/>
                  <a:moveTo>
                    <a:pt x="8" y="56"/>
                  </a:moveTo>
                  <a:cubicBezTo>
                    <a:pt x="10" y="32"/>
                    <a:pt x="28" y="13"/>
                    <a:pt x="51" y="9"/>
                  </a:cubicBezTo>
                  <a:cubicBezTo>
                    <a:pt x="38" y="17"/>
                    <a:pt x="30" y="35"/>
                    <a:pt x="30" y="56"/>
                  </a:cubicBezTo>
                  <a:lnTo>
                    <a:pt x="8" y="56"/>
                  </a:lnTo>
                  <a:close/>
                  <a:moveTo>
                    <a:pt x="34" y="56"/>
                  </a:moveTo>
                  <a:cubicBezTo>
                    <a:pt x="34" y="32"/>
                    <a:pt x="44" y="14"/>
                    <a:pt x="60" y="9"/>
                  </a:cubicBezTo>
                  <a:cubicBezTo>
                    <a:pt x="76" y="14"/>
                    <a:pt x="86" y="32"/>
                    <a:pt x="86" y="56"/>
                  </a:cubicBezTo>
                  <a:lnTo>
                    <a:pt x="34" y="56"/>
                  </a:lnTo>
                  <a:close/>
                  <a:moveTo>
                    <a:pt x="90" y="56"/>
                  </a:moveTo>
                  <a:cubicBezTo>
                    <a:pt x="90" y="35"/>
                    <a:pt x="82" y="17"/>
                    <a:pt x="69" y="9"/>
                  </a:cubicBezTo>
                  <a:cubicBezTo>
                    <a:pt x="92" y="13"/>
                    <a:pt x="110" y="32"/>
                    <a:pt x="112" y="56"/>
                  </a:cubicBezTo>
                  <a:lnTo>
                    <a:pt x="9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3" name="TextBox 28"/>
            <p:cNvSpPr/>
            <p:nvPr/>
          </p:nvSpPr>
          <p:spPr>
            <a:xfrm>
              <a:off x="5800680" y="50490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抵御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矩形 7"/>
          <p:cNvSpPr/>
          <p:nvPr/>
        </p:nvSpPr>
        <p:spPr>
          <a:xfrm>
            <a:off x="8325000" y="6545160"/>
            <a:ext cx="7761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PPT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模板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moban/     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行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PPT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模板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hangye/ 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节日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PPT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模板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jieri/           PPT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素材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sucai/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PPT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背景图片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beijing/      PPT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图表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tubiao/      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优秀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PPT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xiazai/        PPT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教程： 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powerpoint/      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ord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教程： 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word/              Excel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教程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excel/  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资料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ziliao/                PPT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课件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kejian/ 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范文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fanwen/             </a:t>
            </a: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试卷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shiti/  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教案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jiaoan/        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字体下载：</a:t>
            </a: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www.1ppt.com/ziti/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" spc="-1" strike="noStrike" u="sng">
                <a:solidFill>
                  <a:srgbClr val="ffffff"/>
                </a:solidFill>
                <a:uFillTx/>
                <a:latin typeface="Calibri"/>
                <a:ea typeface="宋体"/>
              </a:rPr>
              <a:t> </a:t>
            </a:r>
            <a:endParaRPr b="0" i="1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85" name="Picture 2" descr="星空5"/>
          <p:cNvPicPr/>
          <p:nvPr/>
        </p:nvPicPr>
        <p:blipFill>
          <a:blip r:embed="rId1"/>
          <a:stretch/>
        </p:blipFill>
        <p:spPr>
          <a:xfrm>
            <a:off x="0" y="765000"/>
            <a:ext cx="12192120" cy="6093000"/>
          </a:xfrm>
          <a:prstGeom prst="rect">
            <a:avLst/>
          </a:prstGeom>
          <a:ln w="0">
            <a:noFill/>
          </a:ln>
        </p:spPr>
      </p:pic>
      <p:sp>
        <p:nvSpPr>
          <p:cNvPr id="686" name="等腰三角形 3"/>
          <p:cNvSpPr/>
          <p:nvPr/>
        </p:nvSpPr>
        <p:spPr>
          <a:xfrm rot="10800000">
            <a:off x="5087880" y="19591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矩形 4"/>
          <p:cNvSpPr/>
          <p:nvPr/>
        </p:nvSpPr>
        <p:spPr>
          <a:xfrm>
            <a:off x="5303880" y="2101680"/>
            <a:ext cx="936720" cy="916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2f2f2"/>
                </a:solidFill>
                <a:uFillTx/>
                <a:latin typeface="Arial"/>
                <a:ea typeface="宋体"/>
              </a:rPr>
              <a:t>谜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文本框 5"/>
          <p:cNvSpPr/>
          <p:nvPr/>
        </p:nvSpPr>
        <p:spPr>
          <a:xfrm>
            <a:off x="3359160" y="3290760"/>
            <a:ext cx="64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地球之外的太空是否有生命存在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9" name="文本框 1"/>
          <p:cNvSpPr/>
          <p:nvPr/>
        </p:nvSpPr>
        <p:spPr>
          <a:xfrm>
            <a:off x="3071880" y="42894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地球之外的太空有生命存在的可能性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蓝色地球"/>
          <p:cNvPicPr/>
          <p:nvPr/>
        </p:nvPicPr>
        <p:blipFill>
          <a:blip r:embed="rId1"/>
          <a:stretch/>
        </p:blipFill>
        <p:spPr>
          <a:xfrm>
            <a:off x="4680" y="836640"/>
            <a:ext cx="12200040" cy="6048360"/>
          </a:xfrm>
          <a:prstGeom prst="rect">
            <a:avLst/>
          </a:prstGeom>
          <a:ln w="0">
            <a:noFill/>
          </a:ln>
        </p:spPr>
      </p:pic>
      <p:sp>
        <p:nvSpPr>
          <p:cNvPr id="691" name="等腰三角形 10"/>
          <p:cNvSpPr/>
          <p:nvPr/>
        </p:nvSpPr>
        <p:spPr>
          <a:xfrm rot="16200000">
            <a:off x="1931040" y="198648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2" name="等腰三角形 11"/>
          <p:cNvSpPr/>
          <p:nvPr/>
        </p:nvSpPr>
        <p:spPr>
          <a:xfrm rot="10800000">
            <a:off x="1055160" y="1177560"/>
            <a:ext cx="1359000" cy="1171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3" name="矩形 12"/>
          <p:cNvSpPr/>
          <p:nvPr/>
        </p:nvSpPr>
        <p:spPr>
          <a:xfrm>
            <a:off x="995400" y="1533600"/>
            <a:ext cx="150012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2f2f2"/>
                </a:solidFill>
                <a:uFillTx/>
                <a:latin typeface="微软雅黑"/>
                <a:ea typeface="微软雅黑"/>
              </a:rPr>
              <a:t>理清文章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任意多边形 23"/>
          <p:cNvSpPr/>
          <p:nvPr/>
        </p:nvSpPr>
        <p:spPr>
          <a:xfrm>
            <a:off x="23760" y="836640"/>
            <a:ext cx="12180960" cy="604836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5" name="文本框 25"/>
          <p:cNvSpPr/>
          <p:nvPr/>
        </p:nvSpPr>
        <p:spPr>
          <a:xfrm>
            <a:off x="3262320" y="4457880"/>
            <a:ext cx="8967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 u="sng">
                <a:solidFill>
                  <a:srgbClr val="f2f2f2"/>
                </a:solidFill>
                <a:uFillTx/>
                <a:latin typeface="宋体"/>
                <a:ea typeface="宋体"/>
              </a:rPr>
              <a:t>9-10</a:t>
            </a:r>
            <a:r>
              <a:rPr b="0" i="1" lang="zh-CN" sz="2800" spc="-1" strike="noStrike" u="sng">
                <a:solidFill>
                  <a:srgbClr val="f2f2f2"/>
                </a:solidFill>
                <a:uFillTx/>
                <a:latin typeface="宋体"/>
                <a:ea typeface="宋体"/>
              </a:rPr>
              <a:t>：告诉我们太空可能存在生命，我们还要继续探索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6" name="矩形 1"/>
          <p:cNvSpPr/>
          <p:nvPr/>
        </p:nvSpPr>
        <p:spPr>
          <a:xfrm>
            <a:off x="8129880" y="1700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92d050"/>
                </a:solidFill>
                <a:uFillTx/>
                <a:latin typeface="Arial"/>
                <a:ea typeface="宋体"/>
              </a:rPr>
              <a:t>文章围绕这一问题，写了哪些内容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7" name="矩形 27"/>
          <p:cNvSpPr/>
          <p:nvPr/>
        </p:nvSpPr>
        <p:spPr>
          <a:xfrm>
            <a:off x="4452840" y="22017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bfbfbf"/>
                </a:solidFill>
                <a:uFillTx/>
                <a:latin typeface="Arial"/>
                <a:ea typeface="宋体"/>
              </a:rPr>
              <a:t>3-4</a:t>
            </a:r>
            <a:r>
              <a:rPr b="0" i="1" lang="zh-CN" sz="2800" spc="-1" strike="noStrike" u="sng">
                <a:solidFill>
                  <a:srgbClr val="bfbfbf"/>
                </a:solidFill>
                <a:uFillTx/>
                <a:latin typeface="Arial"/>
                <a:ea typeface="宋体"/>
              </a:rPr>
              <a:t>：列出天体上可能有生命存在的必要条件，并根据这些条件分析太阳系中的其他星球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8" name="矩形 28"/>
          <p:cNvSpPr/>
          <p:nvPr/>
        </p:nvSpPr>
        <p:spPr>
          <a:xfrm>
            <a:off x="3911760" y="3279600"/>
            <a:ext cx="81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bfbfbf"/>
                </a:solidFill>
                <a:uFillTx/>
                <a:latin typeface="Arial"/>
                <a:ea typeface="宋体"/>
              </a:rPr>
              <a:t>5-8</a:t>
            </a:r>
            <a:r>
              <a:rPr b="0" i="1" lang="zh-CN" sz="2800" spc="-1" strike="noStrike" u="sng">
                <a:solidFill>
                  <a:srgbClr val="bfbfbf"/>
                </a:solidFill>
                <a:uFillTx/>
                <a:latin typeface="Arial"/>
                <a:ea typeface="宋体"/>
              </a:rPr>
              <a:t>：科学家们对根据以上条件得出的火星的探索和研究，他们目前得出的结论以及要继续研究的心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ush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4"/>
          <p:cNvSpPr/>
          <p:nvPr/>
        </p:nvSpPr>
        <p:spPr>
          <a:xfrm>
            <a:off x="2405160" y="220176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一是适合生存的温度，一般应在</a:t>
            </a:r>
            <a:r>
              <a:rPr b="0" i="1" lang="en-US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-50~150</a:t>
            </a: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℃</a:t>
            </a: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之间；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0" name="矩形 11"/>
          <p:cNvSpPr/>
          <p:nvPr/>
        </p:nvSpPr>
        <p:spPr>
          <a:xfrm>
            <a:off x="2305080" y="4844880"/>
            <a:ext cx="36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三是适当成分的大气，虽然已发现少数厌氧菌能在没有氧气的条件下生存，但氧气和二氧化碳对于生命的存在是极为重要的；</a:t>
            </a:r>
            <a:r>
              <a:rPr b="0" i="1" lang="zh-CN" sz="1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.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矩形 15"/>
          <p:cNvSpPr/>
          <p:nvPr/>
        </p:nvSpPr>
        <p:spPr>
          <a:xfrm>
            <a:off x="7086600" y="498492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四是要有足够的光和热，为生命体系提供能源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矩形 23"/>
          <p:cNvSpPr/>
          <p:nvPr/>
        </p:nvSpPr>
        <p:spPr>
          <a:xfrm>
            <a:off x="2322360" y="1969920"/>
            <a:ext cx="3733920" cy="191304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3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5" name="矩形 28"/>
          <p:cNvSpPr/>
          <p:nvPr/>
        </p:nvSpPr>
        <p:spPr>
          <a:xfrm>
            <a:off x="2230560" y="4368960"/>
            <a:ext cx="3825720" cy="164304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6" name="矩形 34"/>
          <p:cNvSpPr/>
          <p:nvPr/>
        </p:nvSpPr>
        <p:spPr>
          <a:xfrm>
            <a:off x="7174080" y="19796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二是必要的水分，生命物质诸如蛋白质、核酸的活力都和水紧密相关，没有水，也就没有生命；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等腰三角形 38"/>
          <p:cNvSpPr/>
          <p:nvPr/>
        </p:nvSpPr>
        <p:spPr>
          <a:xfrm rot="7070400">
            <a:off x="3987720" y="3714840"/>
            <a:ext cx="5241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8" name="等腰三角形 21"/>
          <p:cNvSpPr/>
          <p:nvPr/>
        </p:nvSpPr>
        <p:spPr>
          <a:xfrm rot="16200000">
            <a:off x="1931040" y="184176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等腰三角形 22"/>
          <p:cNvSpPr/>
          <p:nvPr/>
        </p:nvSpPr>
        <p:spPr>
          <a:xfrm rot="10800000">
            <a:off x="1064880" y="1033200"/>
            <a:ext cx="1359000" cy="117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矩形 25"/>
          <p:cNvSpPr/>
          <p:nvPr/>
        </p:nvSpPr>
        <p:spPr>
          <a:xfrm>
            <a:off x="925560" y="1335240"/>
            <a:ext cx="149868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2f2f2"/>
                </a:solidFill>
                <a:uFillTx/>
                <a:latin typeface="微软雅黑"/>
                <a:ea typeface="微软雅黑"/>
              </a:rPr>
              <a:t>必备条件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等腰三角形 26"/>
          <p:cNvSpPr/>
          <p:nvPr/>
        </p:nvSpPr>
        <p:spPr>
          <a:xfrm rot="7070400">
            <a:off x="8686800" y="377388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等腰三角形 29"/>
          <p:cNvSpPr/>
          <p:nvPr/>
        </p:nvSpPr>
        <p:spPr>
          <a:xfrm rot="7070400">
            <a:off x="8694360" y="5868720"/>
            <a:ext cx="5205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3" name="等腰三角形 30"/>
          <p:cNvSpPr/>
          <p:nvPr/>
        </p:nvSpPr>
        <p:spPr>
          <a:xfrm rot="7070400">
            <a:off x="3988440" y="59364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ush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0" y="692280"/>
            <a:ext cx="12192120" cy="6178320"/>
          </a:xfrm>
          <a:prstGeom prst="rect">
            <a:avLst/>
          </a:prstGeom>
          <a:ln w="0">
            <a:noFill/>
          </a:ln>
        </p:spPr>
      </p:pic>
      <p:sp>
        <p:nvSpPr>
          <p:cNvPr id="715" name="文本框 38"/>
          <p:cNvSpPr/>
          <p:nvPr/>
        </p:nvSpPr>
        <p:spPr>
          <a:xfrm>
            <a:off x="623880" y="98100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还有没有其他条件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16" name="组合 3"/>
          <p:cNvGrpSpPr/>
          <p:nvPr/>
        </p:nvGrpSpPr>
        <p:grpSpPr>
          <a:xfrm>
            <a:off x="196920" y="182520"/>
            <a:ext cx="239760" cy="347760"/>
            <a:chOff x="196920" y="182520"/>
            <a:chExt cx="239760" cy="347760"/>
          </a:xfrm>
        </p:grpSpPr>
        <p:sp>
          <p:nvSpPr>
            <p:cNvPr id="717" name="菱形 39"/>
            <p:cNvSpPr/>
            <p:nvPr/>
          </p:nvSpPr>
          <p:spPr>
            <a:xfrm>
              <a:off x="196920" y="18252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8" name="菱形 40"/>
            <p:cNvSpPr/>
            <p:nvPr/>
          </p:nvSpPr>
          <p:spPr>
            <a:xfrm>
              <a:off x="196920" y="29160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19" name="Freeform 4"/>
          <p:cNvSpPr/>
          <p:nvPr/>
        </p:nvSpPr>
        <p:spPr>
          <a:xfrm>
            <a:off x="1015920" y="1506600"/>
            <a:ext cx="10082160" cy="1298520"/>
          </a:xfrm>
          <a:custGeom>
            <a:avLst/>
            <a:gdLst/>
            <a:ahLst/>
            <a:rect l="l" t="t" r="r" b="b"/>
            <a:pathLst>
              <a:path w="9430508" h="999986">
                <a:moveTo>
                  <a:pt x="8947704" y="0"/>
                </a:moveTo>
                <a:lnTo>
                  <a:pt x="9430508" y="499994"/>
                </a:lnTo>
                <a:lnTo>
                  <a:pt x="8947704" y="999986"/>
                </a:lnTo>
                <a:lnTo>
                  <a:pt x="89477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8947704" y="265043"/>
                </a:lnTo>
                <a:lnTo>
                  <a:pt x="89477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0" name="Freeform 5"/>
          <p:cNvSpPr/>
          <p:nvPr/>
        </p:nvSpPr>
        <p:spPr>
          <a:xfrm rot="5400000">
            <a:off x="6622920" y="-995040"/>
            <a:ext cx="1298520" cy="7651440"/>
          </a:xfrm>
          <a:custGeom>
            <a:avLst/>
            <a:gdLst/>
            <a:ahLst/>
            <a:rect l="l" t="t" r="r" b="b"/>
            <a:pathLst>
              <a:path w="999985" h="7157209">
                <a:moveTo>
                  <a:pt x="0" y="482805"/>
                </a:moveTo>
                <a:lnTo>
                  <a:pt x="499993" y="0"/>
                </a:lnTo>
                <a:lnTo>
                  <a:pt x="999985" y="482805"/>
                </a:lnTo>
                <a:lnTo>
                  <a:pt x="734943" y="482805"/>
                </a:lnTo>
                <a:lnTo>
                  <a:pt x="734943" y="7157209"/>
                </a:lnTo>
                <a:lnTo>
                  <a:pt x="265043" y="7157209"/>
                </a:lnTo>
                <a:lnTo>
                  <a:pt x="265043" y="482805"/>
                </a:lnTo>
                <a:lnTo>
                  <a:pt x="0" y="482805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1" name="Freeform 6"/>
          <p:cNvSpPr/>
          <p:nvPr/>
        </p:nvSpPr>
        <p:spPr>
          <a:xfrm>
            <a:off x="5742000" y="2874960"/>
            <a:ext cx="5356080" cy="1298520"/>
          </a:xfrm>
          <a:custGeom>
            <a:avLst/>
            <a:gdLst/>
            <a:ahLst/>
            <a:rect l="l" t="t" r="r" b="b"/>
            <a:pathLst>
              <a:path w="5010908" h="999986">
                <a:moveTo>
                  <a:pt x="4528104" y="0"/>
                </a:moveTo>
                <a:lnTo>
                  <a:pt x="5010908" y="499994"/>
                </a:lnTo>
                <a:lnTo>
                  <a:pt x="4528104" y="999986"/>
                </a:lnTo>
                <a:lnTo>
                  <a:pt x="4528104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4528104" y="265043"/>
                </a:lnTo>
                <a:lnTo>
                  <a:pt x="4528104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2" name="Freeform 7"/>
          <p:cNvSpPr/>
          <p:nvPr/>
        </p:nvSpPr>
        <p:spPr>
          <a:xfrm>
            <a:off x="5742000" y="3554280"/>
            <a:ext cx="5356080" cy="1746360"/>
          </a:xfrm>
          <a:custGeom>
            <a:avLst/>
            <a:gdLst/>
            <a:ahLst/>
            <a:rect l="l" t="t" r="r" b="b"/>
            <a:pathLst>
              <a:path w="2898572" h="999986">
                <a:moveTo>
                  <a:pt x="2415768" y="0"/>
                </a:moveTo>
                <a:lnTo>
                  <a:pt x="2898572" y="499994"/>
                </a:lnTo>
                <a:lnTo>
                  <a:pt x="2415768" y="999986"/>
                </a:lnTo>
                <a:lnTo>
                  <a:pt x="2415768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2415768" y="265043"/>
                </a:lnTo>
                <a:lnTo>
                  <a:pt x="2415768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3" name="Group 8" descr=""/>
          <p:cNvPicPr/>
          <p:nvPr/>
        </p:nvPicPr>
        <p:blipFill>
          <a:blip r:embed="rId2"/>
          <a:stretch/>
        </p:blipFill>
        <p:spPr>
          <a:xfrm>
            <a:off x="5865840" y="3286080"/>
            <a:ext cx="476280" cy="457200"/>
          </a:xfrm>
          <a:prstGeom prst="rect">
            <a:avLst/>
          </a:prstGeom>
          <a:ln w="0">
            <a:noFill/>
          </a:ln>
        </p:spPr>
      </p:pic>
      <p:sp>
        <p:nvSpPr>
          <p:cNvPr id="724" name="Freeform 22"/>
          <p:cNvSpPr/>
          <p:nvPr/>
        </p:nvSpPr>
        <p:spPr>
          <a:xfrm>
            <a:off x="3598920" y="2620800"/>
            <a:ext cx="387360" cy="389160"/>
          </a:xfrm>
          <a:custGeom>
            <a:avLst/>
            <a:gdLst/>
            <a:ahLst/>
            <a:rect l="l" t="t" r="r" b="b"/>
            <a:pathLst>
              <a:path w="326" h="328">
                <a:moveTo>
                  <a:pt x="326" y="108"/>
                </a:moveTo>
                <a:lnTo>
                  <a:pt x="219" y="0"/>
                </a:lnTo>
                <a:lnTo>
                  <a:pt x="31" y="188"/>
                </a:lnTo>
                <a:lnTo>
                  <a:pt x="0" y="328"/>
                </a:lnTo>
                <a:lnTo>
                  <a:pt x="139" y="295"/>
                </a:lnTo>
                <a:lnTo>
                  <a:pt x="326" y="108"/>
                </a:lnTo>
                <a:close/>
                <a:moveTo>
                  <a:pt x="129" y="275"/>
                </a:moveTo>
                <a:lnTo>
                  <a:pt x="112" y="258"/>
                </a:lnTo>
                <a:lnTo>
                  <a:pt x="280" y="91"/>
                </a:lnTo>
                <a:lnTo>
                  <a:pt x="297" y="108"/>
                </a:lnTo>
                <a:lnTo>
                  <a:pt x="129" y="275"/>
                </a:lnTo>
                <a:close/>
                <a:moveTo>
                  <a:pt x="67" y="290"/>
                </a:moveTo>
                <a:lnTo>
                  <a:pt x="37" y="260"/>
                </a:lnTo>
                <a:lnTo>
                  <a:pt x="48" y="208"/>
                </a:lnTo>
                <a:lnTo>
                  <a:pt x="66" y="226"/>
                </a:lnTo>
                <a:lnTo>
                  <a:pt x="105" y="265"/>
                </a:lnTo>
                <a:lnTo>
                  <a:pt x="119" y="278"/>
                </a:lnTo>
                <a:lnTo>
                  <a:pt x="67" y="290"/>
                </a:lnTo>
                <a:close/>
                <a:moveTo>
                  <a:pt x="272" y="83"/>
                </a:moveTo>
                <a:lnTo>
                  <a:pt x="105" y="250"/>
                </a:lnTo>
                <a:lnTo>
                  <a:pt x="80" y="226"/>
                </a:lnTo>
                <a:lnTo>
                  <a:pt x="248" y="59"/>
                </a:lnTo>
                <a:lnTo>
                  <a:pt x="272" y="83"/>
                </a:lnTo>
                <a:close/>
                <a:moveTo>
                  <a:pt x="219" y="30"/>
                </a:moveTo>
                <a:lnTo>
                  <a:pt x="240" y="51"/>
                </a:lnTo>
                <a:lnTo>
                  <a:pt x="73" y="218"/>
                </a:lnTo>
                <a:lnTo>
                  <a:pt x="52" y="197"/>
                </a:lnTo>
                <a:lnTo>
                  <a:pt x="219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5" name="Freeform 16"/>
          <p:cNvSpPr/>
          <p:nvPr/>
        </p:nvSpPr>
        <p:spPr>
          <a:xfrm rot="2700000">
            <a:off x="1230840" y="1940400"/>
            <a:ext cx="250560" cy="458640"/>
          </a:xfrm>
          <a:custGeom>
            <a:avLst/>
            <a:gdLst/>
            <a:ahLst/>
            <a:rect l="l" t="t" r="r" b="b"/>
            <a:pathLst>
              <a:path w="579" h="1073">
                <a:moveTo>
                  <a:pt x="482" y="367"/>
                </a:moveTo>
                <a:cubicBezTo>
                  <a:pt x="482" y="148"/>
                  <a:pt x="482" y="148"/>
                  <a:pt x="482" y="148"/>
                </a:cubicBezTo>
                <a:cubicBezTo>
                  <a:pt x="508" y="135"/>
                  <a:pt x="525" y="109"/>
                  <a:pt x="525" y="79"/>
                </a:cubicBezTo>
                <a:cubicBezTo>
                  <a:pt x="525" y="35"/>
                  <a:pt x="490" y="0"/>
                  <a:pt x="44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89" y="0"/>
                  <a:pt x="54" y="35"/>
                  <a:pt x="54" y="79"/>
                </a:cubicBezTo>
                <a:cubicBezTo>
                  <a:pt x="54" y="109"/>
                  <a:pt x="71" y="135"/>
                  <a:pt x="96" y="148"/>
                </a:cubicBezTo>
                <a:cubicBezTo>
                  <a:pt x="96" y="367"/>
                  <a:pt x="96" y="367"/>
                  <a:pt x="96" y="367"/>
                </a:cubicBezTo>
                <a:cubicBezTo>
                  <a:pt x="35" y="422"/>
                  <a:pt x="0" y="500"/>
                  <a:pt x="0" y="583"/>
                </a:cubicBezTo>
                <a:cubicBezTo>
                  <a:pt x="0" y="612"/>
                  <a:pt x="0" y="612"/>
                  <a:pt x="0" y="612"/>
                </a:cubicBezTo>
                <a:cubicBezTo>
                  <a:pt x="224" y="612"/>
                  <a:pt x="224" y="612"/>
                  <a:pt x="224" y="612"/>
                </a:cubicBezTo>
                <a:cubicBezTo>
                  <a:pt x="224" y="923"/>
                  <a:pt x="224" y="923"/>
                  <a:pt x="224" y="923"/>
                </a:cubicBezTo>
                <a:cubicBezTo>
                  <a:pt x="289" y="1073"/>
                  <a:pt x="289" y="1073"/>
                  <a:pt x="289" y="1073"/>
                </a:cubicBezTo>
                <a:cubicBezTo>
                  <a:pt x="355" y="923"/>
                  <a:pt x="355" y="923"/>
                  <a:pt x="355" y="923"/>
                </a:cubicBezTo>
                <a:cubicBezTo>
                  <a:pt x="355" y="612"/>
                  <a:pt x="355" y="612"/>
                  <a:pt x="355" y="612"/>
                </a:cubicBezTo>
                <a:cubicBezTo>
                  <a:pt x="579" y="612"/>
                  <a:pt x="579" y="612"/>
                  <a:pt x="579" y="612"/>
                </a:cubicBezTo>
                <a:cubicBezTo>
                  <a:pt x="579" y="583"/>
                  <a:pt x="579" y="583"/>
                  <a:pt x="579" y="583"/>
                </a:cubicBezTo>
                <a:cubicBezTo>
                  <a:pt x="579" y="500"/>
                  <a:pt x="544" y="422"/>
                  <a:pt x="482" y="367"/>
                </a:cubicBezTo>
                <a:close/>
                <a:moveTo>
                  <a:pt x="132" y="58"/>
                </a:moveTo>
                <a:cubicBezTo>
                  <a:pt x="447" y="58"/>
                  <a:pt x="447" y="58"/>
                  <a:pt x="447" y="58"/>
                </a:cubicBezTo>
                <a:cubicBezTo>
                  <a:pt x="458" y="58"/>
                  <a:pt x="467" y="67"/>
                  <a:pt x="467" y="79"/>
                </a:cubicBezTo>
                <a:cubicBezTo>
                  <a:pt x="467" y="89"/>
                  <a:pt x="459" y="97"/>
                  <a:pt x="449" y="99"/>
                </a:cubicBezTo>
                <a:cubicBezTo>
                  <a:pt x="436" y="101"/>
                  <a:pt x="436" y="101"/>
                  <a:pt x="436" y="101"/>
                </a:cubicBezTo>
                <a:cubicBezTo>
                  <a:pt x="143" y="101"/>
                  <a:pt x="143" y="101"/>
                  <a:pt x="143" y="101"/>
                </a:cubicBezTo>
                <a:cubicBezTo>
                  <a:pt x="129" y="99"/>
                  <a:pt x="129" y="99"/>
                  <a:pt x="129" y="99"/>
                </a:cubicBezTo>
                <a:cubicBezTo>
                  <a:pt x="119" y="97"/>
                  <a:pt x="111" y="89"/>
                  <a:pt x="111" y="79"/>
                </a:cubicBezTo>
                <a:cubicBezTo>
                  <a:pt x="111" y="67"/>
                  <a:pt x="121" y="58"/>
                  <a:pt x="132" y="58"/>
                </a:cubicBezTo>
                <a:close/>
                <a:moveTo>
                  <a:pt x="424" y="370"/>
                </a:moveTo>
                <a:cubicBezTo>
                  <a:pt x="154" y="370"/>
                  <a:pt x="154" y="370"/>
                  <a:pt x="154" y="370"/>
                </a:cubicBezTo>
                <a:cubicBezTo>
                  <a:pt x="154" y="130"/>
                  <a:pt x="154" y="130"/>
                  <a:pt x="154" y="130"/>
                </a:cubicBezTo>
                <a:cubicBezTo>
                  <a:pt x="424" y="130"/>
                  <a:pt x="424" y="130"/>
                  <a:pt x="424" y="130"/>
                </a:cubicBezTo>
                <a:lnTo>
                  <a:pt x="424" y="370"/>
                </a:lnTo>
                <a:close/>
                <a:moveTo>
                  <a:pt x="297" y="911"/>
                </a:moveTo>
                <a:cubicBezTo>
                  <a:pt x="289" y="928"/>
                  <a:pt x="289" y="928"/>
                  <a:pt x="289" y="928"/>
                </a:cubicBezTo>
                <a:cubicBezTo>
                  <a:pt x="282" y="911"/>
                  <a:pt x="282" y="911"/>
                  <a:pt x="282" y="911"/>
                </a:cubicBezTo>
                <a:cubicBezTo>
                  <a:pt x="282" y="612"/>
                  <a:pt x="282" y="612"/>
                  <a:pt x="282" y="612"/>
                </a:cubicBezTo>
                <a:cubicBezTo>
                  <a:pt x="297" y="612"/>
                  <a:pt x="297" y="612"/>
                  <a:pt x="297" y="612"/>
                </a:cubicBezTo>
                <a:lnTo>
                  <a:pt x="297" y="911"/>
                </a:lnTo>
                <a:close/>
                <a:moveTo>
                  <a:pt x="355" y="554"/>
                </a:moveTo>
                <a:cubicBezTo>
                  <a:pt x="224" y="554"/>
                  <a:pt x="224" y="554"/>
                  <a:pt x="224" y="554"/>
                </a:cubicBezTo>
                <a:cubicBezTo>
                  <a:pt x="59" y="554"/>
                  <a:pt x="59" y="554"/>
                  <a:pt x="59" y="554"/>
                </a:cubicBezTo>
                <a:cubicBezTo>
                  <a:pt x="67" y="495"/>
                  <a:pt x="97" y="441"/>
                  <a:pt x="144" y="403"/>
                </a:cubicBezTo>
                <a:cubicBezTo>
                  <a:pt x="149" y="399"/>
                  <a:pt x="149" y="399"/>
                  <a:pt x="149" y="399"/>
                </a:cubicBezTo>
                <a:cubicBezTo>
                  <a:pt x="430" y="399"/>
                  <a:pt x="430" y="399"/>
                  <a:pt x="430" y="399"/>
                </a:cubicBezTo>
                <a:cubicBezTo>
                  <a:pt x="435" y="403"/>
                  <a:pt x="435" y="403"/>
                  <a:pt x="435" y="403"/>
                </a:cubicBezTo>
                <a:cubicBezTo>
                  <a:pt x="482" y="441"/>
                  <a:pt x="512" y="495"/>
                  <a:pt x="519" y="554"/>
                </a:cubicBezTo>
                <a:lnTo>
                  <a:pt x="355" y="5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6" name="Group 17" descr=""/>
          <p:cNvPicPr/>
          <p:nvPr/>
        </p:nvPicPr>
        <p:blipFill>
          <a:blip r:embed="rId3"/>
          <a:stretch/>
        </p:blipFill>
        <p:spPr>
          <a:xfrm>
            <a:off x="5865840" y="4208400"/>
            <a:ext cx="444600" cy="438120"/>
          </a:xfrm>
          <a:prstGeom prst="rect">
            <a:avLst/>
          </a:prstGeom>
          <a:ln w="0">
            <a:noFill/>
          </a:ln>
        </p:spPr>
      </p:pic>
      <p:sp>
        <p:nvSpPr>
          <p:cNvPr id="727" name="Content Placeholder 2"/>
          <p:cNvSpPr/>
          <p:nvPr/>
        </p:nvSpPr>
        <p:spPr>
          <a:xfrm>
            <a:off x="2368440" y="255744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解释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TextBox 23"/>
          <p:cNvSpPr/>
          <p:nvPr/>
        </p:nvSpPr>
        <p:spPr>
          <a:xfrm>
            <a:off x="1700280" y="185436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至少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9" name="TextBox 23"/>
          <p:cNvSpPr/>
          <p:nvPr/>
        </p:nvSpPr>
        <p:spPr>
          <a:xfrm>
            <a:off x="4076640" y="2610000"/>
            <a:ext cx="30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表示最小限度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0" name="TextBox 23"/>
          <p:cNvSpPr/>
          <p:nvPr/>
        </p:nvSpPr>
        <p:spPr>
          <a:xfrm>
            <a:off x="6400800" y="3227400"/>
            <a:ext cx="30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副词（对数量的限定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1" name="TextBox 23"/>
          <p:cNvSpPr/>
          <p:nvPr/>
        </p:nvSpPr>
        <p:spPr>
          <a:xfrm>
            <a:off x="6445080" y="4043520"/>
            <a:ext cx="43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这四个条件是必备条件，但可能还有其他条件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2" name="Content Placeholder 2"/>
          <p:cNvSpPr/>
          <p:nvPr/>
        </p:nvSpPr>
        <p:spPr>
          <a:xfrm>
            <a:off x="4367160" y="32878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词性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3" name="Content Placeholder 2"/>
          <p:cNvSpPr/>
          <p:nvPr/>
        </p:nvSpPr>
        <p:spPr>
          <a:xfrm>
            <a:off x="3244680" y="3987720"/>
            <a:ext cx="26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加上这个词说明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4" name="Content Placeholder 2"/>
          <p:cNvSpPr/>
          <p:nvPr/>
        </p:nvSpPr>
        <p:spPr>
          <a:xfrm>
            <a:off x="2889360" y="533880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去掉这个词的含义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5" name="Freeform 7"/>
          <p:cNvSpPr/>
          <p:nvPr/>
        </p:nvSpPr>
        <p:spPr>
          <a:xfrm>
            <a:off x="5742000" y="4781520"/>
            <a:ext cx="5356080" cy="1746360"/>
          </a:xfrm>
          <a:custGeom>
            <a:avLst/>
            <a:gdLst/>
            <a:ahLst/>
            <a:rect l="l" t="t" r="r" b="b"/>
            <a:pathLst>
              <a:path w="2898572" h="999986">
                <a:moveTo>
                  <a:pt x="2415768" y="0"/>
                </a:moveTo>
                <a:lnTo>
                  <a:pt x="2898572" y="499994"/>
                </a:lnTo>
                <a:lnTo>
                  <a:pt x="2415768" y="999986"/>
                </a:lnTo>
                <a:lnTo>
                  <a:pt x="2415768" y="734943"/>
                </a:lnTo>
                <a:lnTo>
                  <a:pt x="0" y="734943"/>
                </a:lnTo>
                <a:lnTo>
                  <a:pt x="0" y="265043"/>
                </a:lnTo>
                <a:lnTo>
                  <a:pt x="2415768" y="265043"/>
                </a:lnTo>
                <a:lnTo>
                  <a:pt x="2415768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6" name="TextBox 23"/>
          <p:cNvSpPr/>
          <p:nvPr/>
        </p:nvSpPr>
        <p:spPr>
          <a:xfrm>
            <a:off x="6459480" y="5446800"/>
            <a:ext cx="43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去掉则说明只有这四个条件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7" name="文本框 1"/>
          <p:cNvSpPr/>
          <p:nvPr/>
        </p:nvSpPr>
        <p:spPr>
          <a:xfrm rot="732000">
            <a:off x="6743520" y="1268280"/>
            <a:ext cx="34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准确性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总星系0"/>
          <p:cNvPicPr/>
          <p:nvPr/>
        </p:nvPicPr>
        <p:blipFill>
          <a:blip r:embed="rId1"/>
          <a:stretch/>
        </p:blipFill>
        <p:spPr>
          <a:xfrm>
            <a:off x="2063880" y="836640"/>
            <a:ext cx="8280360" cy="6021360"/>
          </a:xfrm>
          <a:prstGeom prst="rect">
            <a:avLst/>
          </a:prstGeom>
          <a:ln w="0">
            <a:noFill/>
          </a:ln>
        </p:spPr>
      </p:pic>
      <p:sp>
        <p:nvSpPr>
          <p:cNvPr id="569" name="WordArt 3"/>
          <p:cNvSpPr txBox="1"/>
          <p:nvPr/>
        </p:nvSpPr>
        <p:spPr>
          <a:xfrm>
            <a:off x="5735520" y="404640"/>
            <a:ext cx="4105440" cy="244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总星系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矩形 3"/>
          <p:cNvSpPr/>
          <p:nvPr/>
        </p:nvSpPr>
        <p:spPr>
          <a:xfrm>
            <a:off x="3114000" y="3141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适合生存的温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9" name="矩形 4"/>
          <p:cNvSpPr/>
          <p:nvPr/>
        </p:nvSpPr>
        <p:spPr>
          <a:xfrm>
            <a:off x="2405160" y="220176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一是适合生存的温度，一般应在</a:t>
            </a:r>
            <a:r>
              <a:rPr b="0" i="1" lang="en-US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-50~150</a:t>
            </a: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℃</a:t>
            </a: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之间；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0" name="矩形 9"/>
          <p:cNvSpPr/>
          <p:nvPr/>
        </p:nvSpPr>
        <p:spPr>
          <a:xfrm>
            <a:off x="3147480" y="4368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适当成分的氧气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矩形 11"/>
          <p:cNvSpPr/>
          <p:nvPr/>
        </p:nvSpPr>
        <p:spPr>
          <a:xfrm>
            <a:off x="2305080" y="4844880"/>
            <a:ext cx="36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三是适当成分的大气，虽然已发现少数厌氧菌能在没有氧气的条件下生存，但氧气和二氧化碳对于生命的存在是极为重要的；</a:t>
            </a:r>
            <a:r>
              <a:rPr b="0" i="1" lang="zh-CN" sz="1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.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矩形 12"/>
          <p:cNvSpPr/>
          <p:nvPr/>
        </p:nvSpPr>
        <p:spPr>
          <a:xfrm>
            <a:off x="7750080" y="4343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足够的光和热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矩形 15"/>
          <p:cNvSpPr/>
          <p:nvPr/>
        </p:nvSpPr>
        <p:spPr>
          <a:xfrm>
            <a:off x="7086600" y="498492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四是要有足够的光和热，为生命体系提供能源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矩形 23"/>
          <p:cNvSpPr/>
          <p:nvPr/>
        </p:nvSpPr>
        <p:spPr>
          <a:xfrm>
            <a:off x="2322360" y="1969920"/>
            <a:ext cx="3733920" cy="191304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7" name="矩形 28"/>
          <p:cNvSpPr/>
          <p:nvPr/>
        </p:nvSpPr>
        <p:spPr>
          <a:xfrm>
            <a:off x="2230560" y="4368960"/>
            <a:ext cx="3825720" cy="164304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8" name="矩形 33"/>
          <p:cNvSpPr/>
          <p:nvPr/>
        </p:nvSpPr>
        <p:spPr>
          <a:xfrm>
            <a:off x="7771680" y="3271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必要的水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矩形 34"/>
          <p:cNvSpPr/>
          <p:nvPr/>
        </p:nvSpPr>
        <p:spPr>
          <a:xfrm>
            <a:off x="7174080" y="19796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二是必要的水分，生命物质诸如蛋白质、核酸的活力都和水紧密相关，没有水，也就没有生命；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等腰三角形 38"/>
          <p:cNvSpPr/>
          <p:nvPr/>
        </p:nvSpPr>
        <p:spPr>
          <a:xfrm rot="7070400">
            <a:off x="3987720" y="3714840"/>
            <a:ext cx="5241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等腰三角形 21"/>
          <p:cNvSpPr/>
          <p:nvPr/>
        </p:nvSpPr>
        <p:spPr>
          <a:xfrm rot="16200000">
            <a:off x="1931040" y="184176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等腰三角形 22"/>
          <p:cNvSpPr/>
          <p:nvPr/>
        </p:nvSpPr>
        <p:spPr>
          <a:xfrm rot="10800000">
            <a:off x="1064880" y="1033200"/>
            <a:ext cx="1359000" cy="117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矩形 25"/>
          <p:cNvSpPr/>
          <p:nvPr/>
        </p:nvSpPr>
        <p:spPr>
          <a:xfrm>
            <a:off x="925560" y="1335240"/>
            <a:ext cx="149868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2f2f2"/>
                </a:solidFill>
                <a:uFillTx/>
                <a:latin typeface="微软雅黑"/>
                <a:ea typeface="微软雅黑"/>
              </a:rPr>
              <a:t>必备条件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4" name="等腰三角形 26"/>
          <p:cNvSpPr/>
          <p:nvPr/>
        </p:nvSpPr>
        <p:spPr>
          <a:xfrm rot="7070400">
            <a:off x="8686800" y="377388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5" name="等腰三角形 29"/>
          <p:cNvSpPr/>
          <p:nvPr/>
        </p:nvSpPr>
        <p:spPr>
          <a:xfrm rot="7070400">
            <a:off x="8694360" y="5868720"/>
            <a:ext cx="5205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6" name="等腰三角形 30"/>
          <p:cNvSpPr/>
          <p:nvPr/>
        </p:nvSpPr>
        <p:spPr>
          <a:xfrm rot="7070400">
            <a:off x="3988440" y="59364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ush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星空7"/>
          <p:cNvPicPr/>
          <p:nvPr/>
        </p:nvPicPr>
        <p:blipFill>
          <a:blip r:embed="rId1"/>
          <a:stretch/>
        </p:blipFill>
        <p:spPr>
          <a:xfrm>
            <a:off x="0" y="765000"/>
            <a:ext cx="12192120" cy="6104160"/>
          </a:xfrm>
          <a:prstGeom prst="rect">
            <a:avLst/>
          </a:prstGeom>
          <a:ln w="0">
            <a:noFill/>
          </a:ln>
        </p:spPr>
      </p:pic>
      <p:sp>
        <p:nvSpPr>
          <p:cNvPr id="758" name="等腰三角形 8"/>
          <p:cNvSpPr/>
          <p:nvPr/>
        </p:nvSpPr>
        <p:spPr>
          <a:xfrm rot="16200000">
            <a:off x="3422520" y="3682440"/>
            <a:ext cx="84132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9" name="等腰三角形 3"/>
          <p:cNvSpPr/>
          <p:nvPr/>
        </p:nvSpPr>
        <p:spPr>
          <a:xfrm rot="10800000">
            <a:off x="1350720" y="2059920"/>
            <a:ext cx="30733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0" name="矩形 1"/>
          <p:cNvSpPr/>
          <p:nvPr/>
        </p:nvSpPr>
        <p:spPr>
          <a:xfrm>
            <a:off x="264960" y="2421000"/>
            <a:ext cx="5327640" cy="109944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2f2f2"/>
                </a:solidFill>
                <a:uFillTx/>
                <a:latin typeface="Arial"/>
                <a:ea typeface="宋体"/>
              </a:rPr>
              <a:t>宇宙生命之谜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12191760" cy="5938920"/>
          </a:xfrm>
          <a:prstGeom prst="rect">
            <a:avLst/>
          </a:prstGeom>
          <a:ln w="0">
            <a:noFill/>
          </a:ln>
        </p:spPr>
      </p:pic>
      <p:sp>
        <p:nvSpPr>
          <p:cNvPr id="762" name="任意多边形 6"/>
          <p:cNvSpPr/>
          <p:nvPr/>
        </p:nvSpPr>
        <p:spPr>
          <a:xfrm rot="19825200">
            <a:off x="-588600" y="3094200"/>
            <a:ext cx="5826240" cy="847440"/>
          </a:xfrm>
          <a:custGeom>
            <a:avLst/>
            <a:gdLst/>
            <a:ahLst/>
            <a:rect l="l" t="t" r="r" b="b"/>
            <a:pathLst>
              <a:path w="4924262" h="847481">
                <a:moveTo>
                  <a:pt x="4924262" y="0"/>
                </a:moveTo>
                <a:lnTo>
                  <a:pt x="4924262" y="847481"/>
                </a:lnTo>
                <a:lnTo>
                  <a:pt x="0" y="847481"/>
                </a:lnTo>
                <a:lnTo>
                  <a:pt x="481038" y="0"/>
                </a:lnTo>
                <a:lnTo>
                  <a:pt x="4924262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文本框 38"/>
          <p:cNvSpPr/>
          <p:nvPr/>
        </p:nvSpPr>
        <p:spPr>
          <a:xfrm rot="19834800">
            <a:off x="-11880" y="369900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从理论上说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64" name="组合 3"/>
          <p:cNvGrpSpPr/>
          <p:nvPr/>
        </p:nvGrpSpPr>
        <p:grpSpPr>
          <a:xfrm>
            <a:off x="196920" y="182520"/>
            <a:ext cx="239760" cy="347760"/>
            <a:chOff x="196920" y="182520"/>
            <a:chExt cx="239760" cy="347760"/>
          </a:xfrm>
        </p:grpSpPr>
        <p:sp>
          <p:nvSpPr>
            <p:cNvPr id="765" name="菱形 39"/>
            <p:cNvSpPr/>
            <p:nvPr/>
          </p:nvSpPr>
          <p:spPr>
            <a:xfrm>
              <a:off x="196920" y="18252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6" name="菱形 40"/>
            <p:cNvSpPr/>
            <p:nvPr/>
          </p:nvSpPr>
          <p:spPr>
            <a:xfrm>
              <a:off x="196920" y="29160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67" name="任意多边形 7"/>
          <p:cNvSpPr/>
          <p:nvPr/>
        </p:nvSpPr>
        <p:spPr>
          <a:xfrm rot="19825200">
            <a:off x="-614520" y="4117680"/>
            <a:ext cx="6400800" cy="882720"/>
          </a:xfrm>
          <a:custGeom>
            <a:avLst/>
            <a:gdLst/>
            <a:ahLst/>
            <a:rect l="l" t="t" r="r" b="b"/>
            <a:pathLst>
              <a:path w="5499093" h="883989">
                <a:moveTo>
                  <a:pt x="5499093" y="0"/>
                </a:moveTo>
                <a:lnTo>
                  <a:pt x="5499093" y="858209"/>
                </a:lnTo>
                <a:cubicBezTo>
                  <a:pt x="4104109" y="858209"/>
                  <a:pt x="1795002" y="876792"/>
                  <a:pt x="63984" y="883760"/>
                </a:cubicBezTo>
                <a:lnTo>
                  <a:pt x="0" y="883989"/>
                </a:lnTo>
                <a:lnTo>
                  <a:pt x="495645" y="10774"/>
                </a:lnTo>
                <a:lnTo>
                  <a:pt x="5499093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8" name="Freeform 47"/>
          <p:cNvSpPr/>
          <p:nvPr/>
        </p:nvSpPr>
        <p:spPr>
          <a:xfrm rot="19825200">
            <a:off x="4849920" y="1173240"/>
            <a:ext cx="1822320" cy="1282680"/>
          </a:xfrm>
          <a:custGeom>
            <a:avLst/>
            <a:gdLst/>
            <a:ahLst/>
            <a:rect l="l" t="t" r="r" b="b"/>
            <a:pathLst>
              <a:path w="185" h="239">
                <a:moveTo>
                  <a:pt x="185" y="146"/>
                </a:moveTo>
                <a:lnTo>
                  <a:pt x="0" y="0"/>
                </a:lnTo>
                <a:lnTo>
                  <a:pt x="0" y="158"/>
                </a:lnTo>
                <a:lnTo>
                  <a:pt x="185" y="239"/>
                </a:lnTo>
                <a:lnTo>
                  <a:pt x="185" y="146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9" name="Freeform 50"/>
          <p:cNvSpPr/>
          <p:nvPr/>
        </p:nvSpPr>
        <p:spPr>
          <a:xfrm rot="19825200">
            <a:off x="5256360" y="2103120"/>
            <a:ext cx="1831680" cy="879480"/>
          </a:xfrm>
          <a:custGeom>
            <a:avLst/>
            <a:gdLst/>
            <a:ahLst/>
            <a:rect l="l" t="t" r="r" b="b"/>
            <a:pathLst>
              <a:path w="185" h="164">
                <a:moveTo>
                  <a:pt x="0" y="160"/>
                </a:moveTo>
                <a:lnTo>
                  <a:pt x="0" y="0"/>
                </a:lnTo>
                <a:lnTo>
                  <a:pt x="185" y="71"/>
                </a:lnTo>
                <a:lnTo>
                  <a:pt x="185" y="164"/>
                </a:lnTo>
                <a:lnTo>
                  <a:pt x="0" y="16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0" name="Freeform 51"/>
          <p:cNvSpPr/>
          <p:nvPr/>
        </p:nvSpPr>
        <p:spPr>
          <a:xfrm rot="19825200">
            <a:off x="6438960" y="484200"/>
            <a:ext cx="2355840" cy="925560"/>
          </a:xfrm>
          <a:custGeom>
            <a:avLst/>
            <a:gdLst/>
            <a:ahLst/>
            <a:rect l="l" t="t" r="r" b="b"/>
            <a:pathLst>
              <a:path w="455" h="174">
                <a:moveTo>
                  <a:pt x="287" y="0"/>
                </a:moveTo>
                <a:lnTo>
                  <a:pt x="287" y="81"/>
                </a:lnTo>
                <a:lnTo>
                  <a:pt x="0" y="81"/>
                </a:lnTo>
                <a:lnTo>
                  <a:pt x="0" y="174"/>
                </a:lnTo>
                <a:lnTo>
                  <a:pt x="287" y="174"/>
                </a:lnTo>
                <a:lnTo>
                  <a:pt x="455" y="174"/>
                </a:lnTo>
                <a:lnTo>
                  <a:pt x="28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1" name="Freeform 54"/>
          <p:cNvSpPr/>
          <p:nvPr/>
        </p:nvSpPr>
        <p:spPr>
          <a:xfrm rot="19825200">
            <a:off x="6837480" y="1255320"/>
            <a:ext cx="2987640" cy="498600"/>
          </a:xfrm>
          <a:custGeom>
            <a:avLst/>
            <a:gdLst/>
            <a:ahLst/>
            <a:rect l="l" t="t" r="r" b="b"/>
            <a:pathLst>
              <a:path w="235" h="39">
                <a:moveTo>
                  <a:pt x="197" y="0"/>
                </a:moveTo>
                <a:cubicBezTo>
                  <a:pt x="172" y="0"/>
                  <a:pt x="147" y="0"/>
                  <a:pt x="121" y="0"/>
                </a:cubicBezTo>
                <a:cubicBezTo>
                  <a:pt x="121" y="0"/>
                  <a:pt x="121" y="0"/>
                  <a:pt x="121" y="0"/>
                </a:cubicBezTo>
                <a:cubicBezTo>
                  <a:pt x="81" y="0"/>
                  <a:pt x="41" y="0"/>
                  <a:pt x="0" y="0"/>
                </a:cubicBezTo>
                <a:cubicBezTo>
                  <a:pt x="0" y="13"/>
                  <a:pt x="0" y="26"/>
                  <a:pt x="0" y="39"/>
                </a:cubicBezTo>
                <a:cubicBezTo>
                  <a:pt x="41" y="39"/>
                  <a:pt x="8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59" y="39"/>
                  <a:pt x="197" y="39"/>
                  <a:pt x="235" y="39"/>
                </a:cubicBezTo>
                <a:lnTo>
                  <a:pt x="197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2" name="文本框 21"/>
          <p:cNvSpPr/>
          <p:nvPr/>
        </p:nvSpPr>
        <p:spPr>
          <a:xfrm rot="19823400">
            <a:off x="-330480" y="4223880"/>
            <a:ext cx="59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人类             找到一颗具有生命的星球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3" name="文本框 1"/>
          <p:cNvSpPr/>
          <p:nvPr/>
        </p:nvSpPr>
        <p:spPr>
          <a:xfrm rot="19911600">
            <a:off x="2118240" y="22478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宇宙是无限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4" name="文本框 2"/>
          <p:cNvSpPr/>
          <p:nvPr/>
        </p:nvSpPr>
        <p:spPr>
          <a:xfrm rot="19830000">
            <a:off x="486720" y="501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至今尚未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5" name="椭圆形标注 3"/>
          <p:cNvSpPr/>
          <p:nvPr/>
        </p:nvSpPr>
        <p:spPr>
          <a:xfrm rot="20207400">
            <a:off x="-188640" y="1399680"/>
            <a:ext cx="4600800" cy="1325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理论：人们关于事物知识的理解和论述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6" name="椭圆形标注 4"/>
          <p:cNvSpPr/>
          <p:nvPr/>
        </p:nvSpPr>
        <p:spPr>
          <a:xfrm rot="20200800">
            <a:off x="1604880" y="4976640"/>
            <a:ext cx="3454560" cy="100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至今尚未：到现在仍没有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矩形 4"/>
          <p:cNvSpPr/>
          <p:nvPr/>
        </p:nvSpPr>
        <p:spPr>
          <a:xfrm>
            <a:off x="2405160" y="220176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一是适合生存的温度，一般应在</a:t>
            </a:r>
            <a:r>
              <a:rPr b="0" i="1" lang="en-US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-50~150</a:t>
            </a: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℃</a:t>
            </a: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之间；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矩形 11"/>
          <p:cNvSpPr/>
          <p:nvPr/>
        </p:nvSpPr>
        <p:spPr>
          <a:xfrm>
            <a:off x="2305080" y="4844880"/>
            <a:ext cx="36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三是适当成分的大气，虽然已发现少数厌氧菌能在没有氧气的条件下生存，但氧气和二氧化碳对于生命的存在是极为重要的；</a:t>
            </a:r>
            <a:r>
              <a:rPr b="0" i="1" lang="zh-CN" sz="1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.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9" name="矩形 15"/>
          <p:cNvSpPr/>
          <p:nvPr/>
        </p:nvSpPr>
        <p:spPr>
          <a:xfrm>
            <a:off x="7086600" y="498492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四是要有足够的光和热，为生命体系提供能源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0" name="矩形 23"/>
          <p:cNvSpPr/>
          <p:nvPr/>
        </p:nvSpPr>
        <p:spPr>
          <a:xfrm>
            <a:off x="2322360" y="1969920"/>
            <a:ext cx="3733920" cy="191304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1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2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3" name="矩形 28"/>
          <p:cNvSpPr/>
          <p:nvPr/>
        </p:nvSpPr>
        <p:spPr>
          <a:xfrm>
            <a:off x="2230560" y="4368960"/>
            <a:ext cx="3825720" cy="1643040"/>
          </a:xfrm>
          <a:prstGeom prst="rect">
            <a:avLst/>
          </a:prstGeom>
          <a:noFill/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4" name="矩形 34"/>
          <p:cNvSpPr/>
          <p:nvPr/>
        </p:nvSpPr>
        <p:spPr>
          <a:xfrm>
            <a:off x="7174080" y="19796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二是必要的水分，生命物质诸如蛋白质、核酸的活力都和水紧密相关，没有水，也就没有生命；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5" name="等腰三角形 38"/>
          <p:cNvSpPr/>
          <p:nvPr/>
        </p:nvSpPr>
        <p:spPr>
          <a:xfrm rot="7070400">
            <a:off x="3987720" y="3714840"/>
            <a:ext cx="5241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6" name="等腰三角形 21"/>
          <p:cNvSpPr/>
          <p:nvPr/>
        </p:nvSpPr>
        <p:spPr>
          <a:xfrm rot="16200000">
            <a:off x="1931040" y="169740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7" name="等腰三角形 22"/>
          <p:cNvSpPr/>
          <p:nvPr/>
        </p:nvSpPr>
        <p:spPr>
          <a:xfrm rot="10800000">
            <a:off x="1064880" y="8881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8" name="矩形 25"/>
          <p:cNvSpPr/>
          <p:nvPr/>
        </p:nvSpPr>
        <p:spPr>
          <a:xfrm>
            <a:off x="925560" y="1190520"/>
            <a:ext cx="149868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2f2f2"/>
                </a:solidFill>
                <a:uFillTx/>
                <a:latin typeface="微软雅黑"/>
                <a:ea typeface="微软雅黑"/>
              </a:rPr>
              <a:t>必备条件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9" name="等腰三角形 26"/>
          <p:cNvSpPr/>
          <p:nvPr/>
        </p:nvSpPr>
        <p:spPr>
          <a:xfrm rot="7070400">
            <a:off x="8686800" y="377388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0" name="等腰三角形 29"/>
          <p:cNvSpPr/>
          <p:nvPr/>
        </p:nvSpPr>
        <p:spPr>
          <a:xfrm rot="7070400">
            <a:off x="8694360" y="5868720"/>
            <a:ext cx="5205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1" name="等腰三角形 30"/>
          <p:cNvSpPr/>
          <p:nvPr/>
        </p:nvSpPr>
        <p:spPr>
          <a:xfrm rot="7070400">
            <a:off x="3988440" y="59364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5" descr=""/>
          <p:cNvPicPr/>
          <p:nvPr/>
        </p:nvPicPr>
        <p:blipFill>
          <a:blip r:embed="rId1"/>
          <a:stretch/>
        </p:blipFill>
        <p:spPr>
          <a:xfrm>
            <a:off x="0" y="708120"/>
            <a:ext cx="12192120" cy="6321240"/>
          </a:xfrm>
          <a:prstGeom prst="rect">
            <a:avLst/>
          </a:prstGeom>
          <a:ln w="0">
            <a:noFill/>
          </a:ln>
        </p:spPr>
      </p:pic>
      <p:pic>
        <p:nvPicPr>
          <p:cNvPr id="793" name="组合 1" descr=""/>
          <p:cNvPicPr/>
          <p:nvPr/>
        </p:nvPicPr>
        <p:blipFill>
          <a:blip r:embed="rId2"/>
          <a:stretch/>
        </p:blipFill>
        <p:spPr>
          <a:xfrm>
            <a:off x="3157560" y="65232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794" name="直接连接符 16"/>
          <p:cNvSpPr/>
          <p:nvPr/>
        </p:nvSpPr>
        <p:spPr>
          <a:xfrm flipV="1">
            <a:off x="4834080" y="73800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5" name="直接连接符 17"/>
          <p:cNvSpPr/>
          <p:nvPr/>
        </p:nvSpPr>
        <p:spPr>
          <a:xfrm>
            <a:off x="6119640" y="73836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6" name="直接连接符 18"/>
          <p:cNvSpPr/>
          <p:nvPr/>
        </p:nvSpPr>
        <p:spPr>
          <a:xfrm>
            <a:off x="7508880" y="106200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7" name="直接连接符 19"/>
          <p:cNvSpPr/>
          <p:nvPr/>
        </p:nvSpPr>
        <p:spPr>
          <a:xfrm>
            <a:off x="8499600" y="197172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8" name="直接连接符 20"/>
          <p:cNvSpPr/>
          <p:nvPr/>
        </p:nvSpPr>
        <p:spPr>
          <a:xfrm flipV="1">
            <a:off x="3789360" y="106164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9" name="直接连接符 21"/>
          <p:cNvSpPr/>
          <p:nvPr/>
        </p:nvSpPr>
        <p:spPr>
          <a:xfrm flipV="1">
            <a:off x="3317760" y="197172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0" name="直接连接符 22"/>
          <p:cNvSpPr/>
          <p:nvPr/>
        </p:nvSpPr>
        <p:spPr>
          <a:xfrm flipH="1" flipV="1">
            <a:off x="3317400" y="324144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1" name="直接连接符 23"/>
          <p:cNvSpPr/>
          <p:nvPr/>
        </p:nvSpPr>
        <p:spPr>
          <a:xfrm flipH="1" flipV="1">
            <a:off x="3482640" y="462744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2" name="直接连接符 24"/>
          <p:cNvSpPr/>
          <p:nvPr/>
        </p:nvSpPr>
        <p:spPr>
          <a:xfrm flipV="1">
            <a:off x="8812080" y="326700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3" name="直接连接符 25"/>
          <p:cNvSpPr/>
          <p:nvPr/>
        </p:nvSpPr>
        <p:spPr>
          <a:xfrm flipV="1">
            <a:off x="8032680" y="458928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4" name="直接连接符 26"/>
          <p:cNvSpPr/>
          <p:nvPr/>
        </p:nvSpPr>
        <p:spPr>
          <a:xfrm flipH="1" flipV="1">
            <a:off x="4260960" y="574164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5" name="直接连接符 27"/>
          <p:cNvSpPr/>
          <p:nvPr/>
        </p:nvSpPr>
        <p:spPr>
          <a:xfrm flipH="1">
            <a:off x="6813720" y="573264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6" name="直接连接符 28"/>
          <p:cNvSpPr/>
          <p:nvPr/>
        </p:nvSpPr>
        <p:spPr>
          <a:xfrm flipH="1" flipV="1">
            <a:off x="5471640" y="636408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7" name="直接连接符 29"/>
          <p:cNvSpPr/>
          <p:nvPr/>
        </p:nvSpPr>
        <p:spPr>
          <a:xfrm>
            <a:off x="4834080" y="106200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8" name="直接连接符 30"/>
          <p:cNvSpPr/>
          <p:nvPr/>
        </p:nvSpPr>
        <p:spPr>
          <a:xfrm>
            <a:off x="4834080" y="106200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9" name="直接连接符 31"/>
          <p:cNvSpPr/>
          <p:nvPr/>
        </p:nvSpPr>
        <p:spPr>
          <a:xfrm>
            <a:off x="6119640" y="73836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0" name="直接连接符 32"/>
          <p:cNvSpPr/>
          <p:nvPr/>
        </p:nvSpPr>
        <p:spPr>
          <a:xfrm>
            <a:off x="6380280" y="106200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1" name="直接连接符 33"/>
          <p:cNvSpPr/>
          <p:nvPr/>
        </p:nvSpPr>
        <p:spPr>
          <a:xfrm>
            <a:off x="7508880" y="106200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2" name="直接连接符 34"/>
          <p:cNvSpPr/>
          <p:nvPr/>
        </p:nvSpPr>
        <p:spPr>
          <a:xfrm flipV="1">
            <a:off x="8112240" y="197172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3" name="直接连接符 35"/>
          <p:cNvSpPr/>
          <p:nvPr/>
        </p:nvSpPr>
        <p:spPr>
          <a:xfrm flipV="1">
            <a:off x="3817800" y="106164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4" name="直接连接符 36"/>
          <p:cNvSpPr/>
          <p:nvPr/>
        </p:nvSpPr>
        <p:spPr>
          <a:xfrm flipH="1">
            <a:off x="3317760" y="254628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5" name="直接连接符 37"/>
          <p:cNvSpPr/>
          <p:nvPr/>
        </p:nvSpPr>
        <p:spPr>
          <a:xfrm flipH="1" flipV="1">
            <a:off x="8109000" y="198396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6" name="直接连接符 38"/>
          <p:cNvSpPr/>
          <p:nvPr/>
        </p:nvSpPr>
        <p:spPr>
          <a:xfrm flipH="1" flipV="1">
            <a:off x="3789000" y="197136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7" name="直接连接符 39"/>
          <p:cNvSpPr/>
          <p:nvPr/>
        </p:nvSpPr>
        <p:spPr>
          <a:xfrm flipH="1" flipV="1">
            <a:off x="3317400" y="324144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8" name="直接连接符 40"/>
          <p:cNvSpPr/>
          <p:nvPr/>
        </p:nvSpPr>
        <p:spPr>
          <a:xfrm flipH="1">
            <a:off x="3490920" y="447984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9" name="直接连接符 41"/>
          <p:cNvSpPr/>
          <p:nvPr/>
        </p:nvSpPr>
        <p:spPr>
          <a:xfrm flipH="1">
            <a:off x="4260600" y="518004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0" name="直接连接符 42"/>
          <p:cNvSpPr/>
          <p:nvPr/>
        </p:nvSpPr>
        <p:spPr>
          <a:xfrm>
            <a:off x="3900600" y="446868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1" name="直接连接符 43"/>
          <p:cNvSpPr/>
          <p:nvPr/>
        </p:nvSpPr>
        <p:spPr>
          <a:xfrm flipV="1">
            <a:off x="7897680" y="459864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822" name="直接箭头连接符 44"/>
          <p:cNvCxnSpPr/>
          <p:nvPr/>
        </p:nvCxnSpPr>
        <p:spPr>
          <a:xfrm>
            <a:off x="7900560" y="490824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823" name="直接连接符 45"/>
          <p:cNvSpPr/>
          <p:nvPr/>
        </p:nvSpPr>
        <p:spPr>
          <a:xfrm flipV="1">
            <a:off x="6541920" y="573228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4" name="直接连接符 46"/>
          <p:cNvSpPr/>
          <p:nvPr/>
        </p:nvSpPr>
        <p:spPr>
          <a:xfrm flipH="1" flipV="1">
            <a:off x="4257360" y="573372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5" name="直接连接符 47"/>
          <p:cNvSpPr/>
          <p:nvPr/>
        </p:nvSpPr>
        <p:spPr>
          <a:xfrm>
            <a:off x="6523200" y="585612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6" name="直接连接符 48"/>
          <p:cNvSpPr/>
          <p:nvPr/>
        </p:nvSpPr>
        <p:spPr>
          <a:xfrm flipH="1">
            <a:off x="5472000" y="585612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7" name="直接连接符 49"/>
          <p:cNvSpPr/>
          <p:nvPr/>
        </p:nvSpPr>
        <p:spPr>
          <a:xfrm flipH="1">
            <a:off x="8305560" y="327024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8" name="直接连接符 50"/>
          <p:cNvSpPr/>
          <p:nvPr/>
        </p:nvSpPr>
        <p:spPr>
          <a:xfrm flipV="1">
            <a:off x="7891560" y="325296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9" name="直接连接符 51"/>
          <p:cNvSpPr/>
          <p:nvPr/>
        </p:nvSpPr>
        <p:spPr>
          <a:xfrm>
            <a:off x="6380280" y="106200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0" name="直接连接符 52"/>
          <p:cNvSpPr/>
          <p:nvPr/>
        </p:nvSpPr>
        <p:spPr>
          <a:xfrm flipH="1" flipV="1">
            <a:off x="6383160" y="1066680"/>
            <a:ext cx="1579680" cy="1782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1" name="直接连接符 53"/>
          <p:cNvSpPr/>
          <p:nvPr/>
        </p:nvSpPr>
        <p:spPr>
          <a:xfrm flipH="1">
            <a:off x="7959600" y="199548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直接连接符 54"/>
          <p:cNvSpPr/>
          <p:nvPr/>
        </p:nvSpPr>
        <p:spPr>
          <a:xfrm flipH="1" flipV="1">
            <a:off x="8112240" y="198756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3" name="直接连接符 55"/>
          <p:cNvSpPr/>
          <p:nvPr/>
        </p:nvSpPr>
        <p:spPr>
          <a:xfrm flipV="1">
            <a:off x="4168800" y="172224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4" name="直接连接符 56"/>
          <p:cNvSpPr/>
          <p:nvPr/>
        </p:nvSpPr>
        <p:spPr>
          <a:xfrm flipV="1">
            <a:off x="5202360" y="106164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5" name="直接连接符 57"/>
          <p:cNvSpPr/>
          <p:nvPr/>
        </p:nvSpPr>
        <p:spPr>
          <a:xfrm flipV="1">
            <a:off x="3817800" y="172872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6" name="直接连接符 58"/>
          <p:cNvSpPr/>
          <p:nvPr/>
        </p:nvSpPr>
        <p:spPr>
          <a:xfrm flipH="1" flipV="1">
            <a:off x="3819600" y="257976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7" name="直接连接符 59"/>
          <p:cNvSpPr/>
          <p:nvPr/>
        </p:nvSpPr>
        <p:spPr>
          <a:xfrm flipH="1">
            <a:off x="3900240" y="394812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8" name="直接连接符 60"/>
          <p:cNvSpPr/>
          <p:nvPr/>
        </p:nvSpPr>
        <p:spPr>
          <a:xfrm flipH="1" flipV="1">
            <a:off x="4168440" y="394776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9" name="直接连接符 61"/>
          <p:cNvSpPr/>
          <p:nvPr/>
        </p:nvSpPr>
        <p:spPr>
          <a:xfrm flipH="1" flipV="1">
            <a:off x="3900600" y="447948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0" name="直接连接符 62"/>
          <p:cNvSpPr/>
          <p:nvPr/>
        </p:nvSpPr>
        <p:spPr>
          <a:xfrm flipH="1" flipV="1">
            <a:off x="5202000" y="517968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1" name="直接连接符 63"/>
          <p:cNvSpPr/>
          <p:nvPr/>
        </p:nvSpPr>
        <p:spPr>
          <a:xfrm flipH="1">
            <a:off x="6523200" y="394812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2" name="直接连接符 64"/>
          <p:cNvSpPr/>
          <p:nvPr/>
        </p:nvSpPr>
        <p:spPr>
          <a:xfrm flipV="1">
            <a:off x="7883640" y="395928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3" name="直接连接符 65"/>
          <p:cNvSpPr/>
          <p:nvPr/>
        </p:nvSpPr>
        <p:spPr>
          <a:xfrm flipH="1">
            <a:off x="7897680" y="345744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4" name="直接连接符 66"/>
          <p:cNvSpPr/>
          <p:nvPr/>
        </p:nvSpPr>
        <p:spPr>
          <a:xfrm flipV="1">
            <a:off x="6537240" y="490824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5" name="直接连接符 67"/>
          <p:cNvSpPr/>
          <p:nvPr/>
        </p:nvSpPr>
        <p:spPr>
          <a:xfrm>
            <a:off x="4168800" y="284472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6" name="直接连接符 68"/>
          <p:cNvSpPr/>
          <p:nvPr/>
        </p:nvSpPr>
        <p:spPr>
          <a:xfrm>
            <a:off x="4168800" y="284472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7" name="直接连接符 69"/>
          <p:cNvSpPr/>
          <p:nvPr/>
        </p:nvSpPr>
        <p:spPr>
          <a:xfrm>
            <a:off x="7959600" y="284472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8" name="直接连接符 70"/>
          <p:cNvSpPr/>
          <p:nvPr/>
        </p:nvSpPr>
        <p:spPr>
          <a:xfrm>
            <a:off x="6032520" y="284472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9" name="直接连接符 71"/>
          <p:cNvSpPr/>
          <p:nvPr/>
        </p:nvSpPr>
        <p:spPr>
          <a:xfrm>
            <a:off x="4168800" y="334332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0" name="直接连接符 72"/>
          <p:cNvSpPr/>
          <p:nvPr/>
        </p:nvSpPr>
        <p:spPr>
          <a:xfrm>
            <a:off x="7959600" y="321624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1" name="直接连接符 73"/>
          <p:cNvSpPr/>
          <p:nvPr/>
        </p:nvSpPr>
        <p:spPr>
          <a:xfrm>
            <a:off x="4168800" y="395928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2" name="直接连接符 74"/>
          <p:cNvSpPr/>
          <p:nvPr/>
        </p:nvSpPr>
        <p:spPr>
          <a:xfrm>
            <a:off x="6661080" y="395928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53" name="组合 78"/>
          <p:cNvGrpSpPr/>
          <p:nvPr/>
        </p:nvGrpSpPr>
        <p:grpSpPr>
          <a:xfrm>
            <a:off x="3359160" y="2871720"/>
            <a:ext cx="5448240" cy="1758960"/>
            <a:chOff x="3359160" y="2871720"/>
            <a:chExt cx="5448240" cy="1758960"/>
          </a:xfrm>
        </p:grpSpPr>
        <p:sp>
          <p:nvSpPr>
            <p:cNvPr id="854" name="文本框 76"/>
            <p:cNvSpPr/>
            <p:nvPr/>
          </p:nvSpPr>
          <p:spPr>
            <a:xfrm>
              <a:off x="3359160" y="287172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 u="sng">
                  <a:solidFill>
                    <a:srgbClr val="ffffff"/>
                  </a:solidFill>
                  <a:uFillTx/>
                  <a:latin typeface="Billboard"/>
                  <a:ea typeface="张海山锐谐体"/>
                </a:rPr>
                <a:t>POWERPOINT</a:t>
              </a:r>
              <a:endParaRPr b="0" i="1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55" name="文本框 77"/>
            <p:cNvSpPr/>
            <p:nvPr/>
          </p:nvSpPr>
          <p:spPr>
            <a:xfrm>
              <a:off x="5397480" y="3805200"/>
              <a:ext cx="136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ffff"/>
                  </a:solidFill>
                  <a:uFillTx/>
                  <a:latin typeface="张海山锐谐体"/>
                  <a:ea typeface="张海山锐谐体"/>
                </a:rPr>
                <a:t>YOUR  TITLE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56" name="矩形 79"/>
          <p:cNvSpPr/>
          <p:nvPr/>
        </p:nvSpPr>
        <p:spPr>
          <a:xfrm>
            <a:off x="1600200" y="234468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7" name="文本框 80"/>
          <p:cNvSpPr/>
          <p:nvPr/>
        </p:nvSpPr>
        <p:spPr>
          <a:xfrm>
            <a:off x="2211480" y="2957400"/>
            <a:ext cx="790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太阳系中</a:t>
            </a: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微软雅黑"/>
                <a:ea typeface="微软雅黑"/>
              </a:rPr>
              <a:t>唯一还可能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存在生命的星球是火星。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图片 1" descr=""/>
          <p:cNvPicPr/>
          <p:nvPr/>
        </p:nvPicPr>
        <p:blipFill>
          <a:blip r:embed="rId1"/>
          <a:stretch/>
        </p:blipFill>
        <p:spPr>
          <a:xfrm>
            <a:off x="30240" y="765000"/>
            <a:ext cx="12191760" cy="6215400"/>
          </a:xfrm>
          <a:prstGeom prst="rect">
            <a:avLst/>
          </a:prstGeom>
          <a:ln w="0">
            <a:noFill/>
          </a:ln>
        </p:spPr>
      </p:pic>
      <p:sp>
        <p:nvSpPr>
          <p:cNvPr id="859" name="文本框 38"/>
          <p:cNvSpPr/>
          <p:nvPr/>
        </p:nvSpPr>
        <p:spPr>
          <a:xfrm>
            <a:off x="519120" y="905040"/>
            <a:ext cx="21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关于火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60" name="组合 3"/>
          <p:cNvGrpSpPr/>
          <p:nvPr/>
        </p:nvGrpSpPr>
        <p:grpSpPr>
          <a:xfrm>
            <a:off x="196920" y="182520"/>
            <a:ext cx="239760" cy="347760"/>
            <a:chOff x="196920" y="182520"/>
            <a:chExt cx="239760" cy="347760"/>
          </a:xfrm>
        </p:grpSpPr>
        <p:sp>
          <p:nvSpPr>
            <p:cNvPr id="861" name="菱形 39"/>
            <p:cNvSpPr/>
            <p:nvPr/>
          </p:nvSpPr>
          <p:spPr>
            <a:xfrm>
              <a:off x="196920" y="18252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62" name="菱形 40"/>
            <p:cNvSpPr/>
            <p:nvPr/>
          </p:nvSpPr>
          <p:spPr>
            <a:xfrm>
              <a:off x="196920" y="29160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63" name="任意多边形 6"/>
          <p:cNvSpPr/>
          <p:nvPr/>
        </p:nvSpPr>
        <p:spPr>
          <a:xfrm>
            <a:off x="2576520" y="3375000"/>
            <a:ext cx="2401920" cy="163440"/>
          </a:xfrm>
          <a:custGeom>
            <a:avLst/>
            <a:gdLst/>
            <a:ahLst/>
            <a:rect l="l" t="t" r="r" b="b"/>
            <a:pathLst>
              <a:path w="2402894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2263795" y="108193"/>
                </a:cubicBezTo>
                <a:lnTo>
                  <a:pt x="2402894" y="108193"/>
                </a:lnTo>
                <a:lnTo>
                  <a:pt x="2396392" y="140935"/>
                </a:lnTo>
                <a:lnTo>
                  <a:pt x="2401002" y="164148"/>
                </a:lnTo>
                <a:lnTo>
                  <a:pt x="2263795" y="164148"/>
                </a:ln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4" name="任意多边形 7"/>
          <p:cNvSpPr/>
          <p:nvPr/>
        </p:nvSpPr>
        <p:spPr>
          <a:xfrm>
            <a:off x="2576520" y="1413000"/>
            <a:ext cx="3430440" cy="2070000"/>
          </a:xfrm>
          <a:custGeom>
            <a:avLst/>
            <a:gdLst/>
            <a:ahLst/>
            <a:rect l="l" t="t" r="r" b="b"/>
            <a:pathLst>
              <a:path w="3432175" h="2070100">
                <a:moveTo>
                  <a:pt x="104442" y="0"/>
                </a:moveTo>
                <a:cubicBezTo>
                  <a:pt x="3327733" y="0"/>
                  <a:pt x="3327733" y="0"/>
                  <a:pt x="3327733" y="0"/>
                </a:cubicBezTo>
                <a:cubicBezTo>
                  <a:pt x="3385356" y="0"/>
                  <a:pt x="3432175" y="46884"/>
                  <a:pt x="3432175" y="108193"/>
                </a:cubicBezTo>
                <a:lnTo>
                  <a:pt x="3432175" y="1025319"/>
                </a:lnTo>
                <a:lnTo>
                  <a:pt x="3409488" y="1029775"/>
                </a:lnTo>
                <a:cubicBezTo>
                  <a:pt x="3385012" y="1039761"/>
                  <a:pt x="3362000" y="1054741"/>
                  <a:pt x="3342028" y="1074713"/>
                </a:cubicBezTo>
                <a:cubicBezTo>
                  <a:pt x="3342028" y="1074713"/>
                  <a:pt x="3342028" y="1074713"/>
                  <a:pt x="2456309" y="1960432"/>
                </a:cubicBezTo>
                <a:cubicBezTo>
                  <a:pt x="2436337" y="1980404"/>
                  <a:pt x="2421358" y="2003198"/>
                  <a:pt x="2411371" y="2027403"/>
                </a:cubicBezTo>
                <a:lnTo>
                  <a:pt x="2402894" y="2070100"/>
                </a:lnTo>
                <a:lnTo>
                  <a:pt x="2263795" y="2070100"/>
                </a:ln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5" name="任意多边形 8"/>
          <p:cNvSpPr/>
          <p:nvPr/>
        </p:nvSpPr>
        <p:spPr>
          <a:xfrm>
            <a:off x="6122880" y="1413000"/>
            <a:ext cx="3435480" cy="2070000"/>
          </a:xfrm>
          <a:custGeom>
            <a:avLst/>
            <a:gdLst/>
            <a:ahLst/>
            <a:rect l="l" t="t" r="r" b="b"/>
            <a:pathLst>
              <a:path w="3435350" h="2070100">
                <a:moveTo>
                  <a:pt x="108030" y="0"/>
                </a:move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3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2321292" y="2070100"/>
                  <a:pt x="1629648" y="2070100"/>
                  <a:pt x="1154142" y="2070100"/>
                </a:cubicBezTo>
                <a:lnTo>
                  <a:pt x="1017919" y="2070100"/>
                </a:lnTo>
                <a:lnTo>
                  <a:pt x="1009441" y="2027403"/>
                </a:lnTo>
                <a:cubicBezTo>
                  <a:pt x="999455" y="2003198"/>
                  <a:pt x="984476" y="1980404"/>
                  <a:pt x="964504" y="1960432"/>
                </a:cubicBezTo>
                <a:cubicBezTo>
                  <a:pt x="964504" y="1960432"/>
                  <a:pt x="964504" y="1960432"/>
                  <a:pt x="78784" y="1074713"/>
                </a:cubicBezTo>
                <a:cubicBezTo>
                  <a:pt x="59681" y="1054741"/>
                  <a:pt x="37321" y="1039761"/>
                  <a:pt x="13278" y="1029775"/>
                </a:cubicBezTo>
                <a:lnTo>
                  <a:pt x="0" y="1027145"/>
                </a:lnTo>
                <a:lnTo>
                  <a:pt x="0" y="992113"/>
                </a:lnTo>
                <a:cubicBezTo>
                  <a:pt x="0" y="108193"/>
                  <a:pt x="0" y="108193"/>
                  <a:pt x="0" y="108193"/>
                </a:cubicBezTo>
                <a:cubicBezTo>
                  <a:pt x="0" y="46884"/>
                  <a:pt x="46813" y="0"/>
                  <a:pt x="108030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6" name="任意多边形 9"/>
          <p:cNvSpPr/>
          <p:nvPr/>
        </p:nvSpPr>
        <p:spPr>
          <a:xfrm>
            <a:off x="2576520" y="5595840"/>
            <a:ext cx="3430440" cy="163440"/>
          </a:xfrm>
          <a:custGeom>
            <a:avLst/>
            <a:gdLst/>
            <a:ahLst/>
            <a:rect l="l" t="t" r="r" b="b"/>
            <a:pathLst>
              <a:path w="3432175" h="164148">
                <a:moveTo>
                  <a:pt x="0" y="0"/>
                </a:moveTo>
                <a:cubicBezTo>
                  <a:pt x="0" y="61309"/>
                  <a:pt x="46819" y="108193"/>
                  <a:pt x="104442" y="108193"/>
                </a:cubicBezTo>
                <a:cubicBezTo>
                  <a:pt x="104442" y="108193"/>
                  <a:pt x="104442" y="108193"/>
                  <a:pt x="3327733" y="108193"/>
                </a:cubicBezTo>
                <a:cubicBezTo>
                  <a:pt x="3385356" y="108193"/>
                  <a:pt x="3432175" y="61309"/>
                  <a:pt x="3432175" y="0"/>
                </a:cubicBezTo>
                <a:lnTo>
                  <a:pt x="3432175" y="55955"/>
                </a:lnTo>
                <a:cubicBezTo>
                  <a:pt x="3432175" y="117264"/>
                  <a:pt x="3385356" y="164148"/>
                  <a:pt x="3327733" y="164148"/>
                </a:cubicBezTo>
                <a:cubicBezTo>
                  <a:pt x="104442" y="164148"/>
                  <a:pt x="104442" y="164148"/>
                  <a:pt x="104442" y="164148"/>
                </a:cubicBezTo>
                <a:cubicBezTo>
                  <a:pt x="46819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7" name="任意多边形 10"/>
          <p:cNvSpPr/>
          <p:nvPr/>
        </p:nvSpPr>
        <p:spPr>
          <a:xfrm>
            <a:off x="6122880" y="5595840"/>
            <a:ext cx="3435480" cy="163440"/>
          </a:xfrm>
          <a:custGeom>
            <a:avLst/>
            <a:gdLst/>
            <a:ahLst/>
            <a:rect l="l" t="t" r="r" b="b"/>
            <a:pathLst>
              <a:path w="3435350" h="164148">
                <a:moveTo>
                  <a:pt x="0" y="0"/>
                </a:moveTo>
                <a:cubicBezTo>
                  <a:pt x="0" y="61309"/>
                  <a:pt x="46813" y="108193"/>
                  <a:pt x="108030" y="108193"/>
                </a:cubicBezTo>
                <a:cubicBezTo>
                  <a:pt x="108030" y="108193"/>
                  <a:pt x="108030" y="108193"/>
                  <a:pt x="3327320" y="108193"/>
                </a:cubicBezTo>
                <a:cubicBezTo>
                  <a:pt x="3384936" y="108193"/>
                  <a:pt x="3435350" y="61309"/>
                  <a:pt x="3435350" y="0"/>
                </a:cubicBezTo>
                <a:lnTo>
                  <a:pt x="3435350" y="55955"/>
                </a:lnTo>
                <a:cubicBezTo>
                  <a:pt x="3435350" y="117264"/>
                  <a:pt x="3384936" y="164148"/>
                  <a:pt x="3327320" y="164148"/>
                </a:cubicBezTo>
                <a:cubicBezTo>
                  <a:pt x="108030" y="164148"/>
                  <a:pt x="108030" y="164148"/>
                  <a:pt x="108030" y="164148"/>
                </a:cubicBezTo>
                <a:cubicBezTo>
                  <a:pt x="46813" y="164148"/>
                  <a:pt x="0" y="117264"/>
                  <a:pt x="0" y="5595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8" name="TextBox 33"/>
          <p:cNvSpPr/>
          <p:nvPr/>
        </p:nvSpPr>
        <p:spPr>
          <a:xfrm>
            <a:off x="7748640" y="197172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9" name="TextBox 37"/>
          <p:cNvSpPr/>
          <p:nvPr/>
        </p:nvSpPr>
        <p:spPr>
          <a:xfrm>
            <a:off x="2855880" y="2185920"/>
            <a:ext cx="28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个必备条件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都具备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0" name="任意多边形 15"/>
          <p:cNvSpPr/>
          <p:nvPr/>
        </p:nvSpPr>
        <p:spPr>
          <a:xfrm>
            <a:off x="7142040" y="3375000"/>
            <a:ext cx="2416320" cy="163440"/>
          </a:xfrm>
          <a:custGeom>
            <a:avLst/>
            <a:gdLst/>
            <a:ahLst/>
            <a:rect l="l" t="t" r="r" b="b"/>
            <a:pathLst>
              <a:path w="2417431" h="164148">
                <a:moveTo>
                  <a:pt x="2417431" y="0"/>
                </a:moveTo>
                <a:lnTo>
                  <a:pt x="2417431" y="55955"/>
                </a:lnTo>
                <a:cubicBezTo>
                  <a:pt x="2417431" y="117264"/>
                  <a:pt x="2367017" y="164148"/>
                  <a:pt x="2309401" y="164148"/>
                </a:cubicBezTo>
                <a:cubicBezTo>
                  <a:pt x="1303373" y="164148"/>
                  <a:pt x="611729" y="164148"/>
                  <a:pt x="136223" y="164148"/>
                </a:cubicBezTo>
                <a:lnTo>
                  <a:pt x="1892" y="164148"/>
                </a:lnTo>
                <a:lnTo>
                  <a:pt x="6501" y="140935"/>
                </a:lnTo>
                <a:lnTo>
                  <a:pt x="0" y="108193"/>
                </a:lnTo>
                <a:lnTo>
                  <a:pt x="136223" y="108193"/>
                </a:lnTo>
                <a:cubicBezTo>
                  <a:pt x="611729" y="108193"/>
                  <a:pt x="1303373" y="108193"/>
                  <a:pt x="2309401" y="108193"/>
                </a:cubicBezTo>
                <a:cubicBezTo>
                  <a:pt x="2367017" y="108193"/>
                  <a:pt x="2417431" y="61309"/>
                  <a:pt x="2417431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1" name="任意多边形 16"/>
          <p:cNvSpPr/>
          <p:nvPr/>
        </p:nvSpPr>
        <p:spPr>
          <a:xfrm>
            <a:off x="4967280" y="3349800"/>
            <a:ext cx="2182680" cy="1355400"/>
          </a:xfrm>
          <a:custGeom>
            <a:avLst/>
            <a:gdLst/>
            <a:ahLst/>
            <a:rect l="l" t="t" r="r" b="b"/>
            <a:pathLst>
              <a:path w="2182678" h="1355631">
                <a:moveTo>
                  <a:pt x="13792" y="116176"/>
                </a:moveTo>
                <a:lnTo>
                  <a:pt x="3944" y="165773"/>
                </a:lnTo>
                <a:cubicBezTo>
                  <a:pt x="3944" y="217005"/>
                  <a:pt x="23917" y="268238"/>
                  <a:pt x="63861" y="308182"/>
                </a:cubicBezTo>
                <a:cubicBezTo>
                  <a:pt x="63861" y="308182"/>
                  <a:pt x="63861" y="308182"/>
                  <a:pt x="949580" y="1193902"/>
                </a:cubicBezTo>
                <a:cubicBezTo>
                  <a:pt x="1029468" y="1273790"/>
                  <a:pt x="1157984" y="1273790"/>
                  <a:pt x="1234399" y="1193902"/>
                </a:cubicBezTo>
                <a:lnTo>
                  <a:pt x="2120119" y="308182"/>
                </a:lnTo>
                <a:cubicBezTo>
                  <a:pt x="2140091" y="288210"/>
                  <a:pt x="2155070" y="265416"/>
                  <a:pt x="2165056" y="241211"/>
                </a:cubicBezTo>
                <a:lnTo>
                  <a:pt x="2179897" y="166468"/>
                </a:lnTo>
                <a:lnTo>
                  <a:pt x="2182678" y="217221"/>
                </a:lnTo>
                <a:cubicBezTo>
                  <a:pt x="2181809" y="293636"/>
                  <a:pt x="2160957" y="370051"/>
                  <a:pt x="2120989" y="409995"/>
                </a:cubicBezTo>
                <a:lnTo>
                  <a:pt x="1234757" y="1295715"/>
                </a:lnTo>
                <a:cubicBezTo>
                  <a:pt x="1158297" y="1375603"/>
                  <a:pt x="1029707" y="1375603"/>
                  <a:pt x="949772" y="1295715"/>
                </a:cubicBezTo>
                <a:cubicBezTo>
                  <a:pt x="63540" y="409995"/>
                  <a:pt x="63540" y="409995"/>
                  <a:pt x="63540" y="409995"/>
                </a:cubicBezTo>
                <a:cubicBezTo>
                  <a:pt x="3589" y="350079"/>
                  <a:pt x="-15309" y="215919"/>
                  <a:pt x="12712" y="118880"/>
                </a:cubicBezTo>
                <a:lnTo>
                  <a:pt x="13792" y="116176"/>
                </a:lnTo>
                <a:close/>
                <a:moveTo>
                  <a:pt x="2167902" y="104667"/>
                </a:moveTo>
                <a:lnTo>
                  <a:pt x="2168885" y="107158"/>
                </a:lnTo>
                <a:cubicBezTo>
                  <a:pt x="2173718" y="123982"/>
                  <a:pt x="2177275" y="141946"/>
                  <a:pt x="2179569" y="160480"/>
                </a:cubicBezTo>
                <a:lnTo>
                  <a:pt x="2179792" y="164547"/>
                </a:lnTo>
                <a:lnTo>
                  <a:pt x="2167902" y="104667"/>
                </a:lnTo>
                <a:close/>
                <a:moveTo>
                  <a:pt x="2096756" y="0"/>
                </a:moveTo>
                <a:lnTo>
                  <a:pt x="2097313" y="491"/>
                </a:lnTo>
                <a:cubicBezTo>
                  <a:pt x="2124464" y="24447"/>
                  <a:pt x="2124464" y="24447"/>
                  <a:pt x="2124464" y="24447"/>
                </a:cubicBezTo>
                <a:cubicBezTo>
                  <a:pt x="2134456" y="34433"/>
                  <a:pt x="2143145" y="46699"/>
                  <a:pt x="2150544" y="60674"/>
                </a:cubicBezTo>
                <a:lnTo>
                  <a:pt x="2158237" y="80172"/>
                </a:lnTo>
                <a:lnTo>
                  <a:pt x="2120119" y="23363"/>
                </a:lnTo>
                <a:cubicBezTo>
                  <a:pt x="2120119" y="23363"/>
                  <a:pt x="2120119" y="23363"/>
                  <a:pt x="2106279" y="9524"/>
                </a:cubicBezTo>
                <a:lnTo>
                  <a:pt x="2096756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TextBox 31"/>
          <p:cNvSpPr/>
          <p:nvPr/>
        </p:nvSpPr>
        <p:spPr>
          <a:xfrm>
            <a:off x="5595120" y="3505320"/>
            <a:ext cx="9061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火星和地球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3" name="Freeform 5"/>
          <p:cNvSpPr/>
          <p:nvPr/>
        </p:nvSpPr>
        <p:spPr>
          <a:xfrm>
            <a:off x="5843520" y="2952720"/>
            <a:ext cx="409680" cy="409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4" name="Freeform 14"/>
          <p:cNvSpPr/>
          <p:nvPr/>
        </p:nvSpPr>
        <p:spPr>
          <a:xfrm>
            <a:off x="4976640" y="2441520"/>
            <a:ext cx="2216160" cy="2216160"/>
          </a:xfrm>
          <a:custGeom>
            <a:avLst/>
            <a:gdLst/>
            <a:ahLst/>
            <a:rect l="l" t="t" r="r" b="b"/>
            <a:pathLst>
              <a:path w="638" h="638">
                <a:moveTo>
                  <a:pt x="360" y="615"/>
                </a:moveTo>
                <a:cubicBezTo>
                  <a:pt x="338" y="638"/>
                  <a:pt x="301" y="638"/>
                  <a:pt x="278" y="615"/>
                </a:cubicBezTo>
                <a:cubicBezTo>
                  <a:pt x="23" y="360"/>
                  <a:pt x="23" y="360"/>
                  <a:pt x="23" y="360"/>
                </a:cubicBezTo>
                <a:cubicBezTo>
                  <a:pt x="0" y="337"/>
                  <a:pt x="0" y="301"/>
                  <a:pt x="23" y="278"/>
                </a:cubicBezTo>
                <a:cubicBezTo>
                  <a:pt x="278" y="23"/>
                  <a:pt x="278" y="23"/>
                  <a:pt x="278" y="23"/>
                </a:cubicBezTo>
                <a:cubicBezTo>
                  <a:pt x="301" y="0"/>
                  <a:pt x="338" y="0"/>
                  <a:pt x="360" y="23"/>
                </a:cubicBezTo>
                <a:cubicBezTo>
                  <a:pt x="615" y="278"/>
                  <a:pt x="615" y="278"/>
                  <a:pt x="615" y="278"/>
                </a:cubicBezTo>
                <a:cubicBezTo>
                  <a:pt x="638" y="301"/>
                  <a:pt x="638" y="337"/>
                  <a:pt x="615" y="360"/>
                </a:cubicBezTo>
                <a:lnTo>
                  <a:pt x="360" y="615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5" name="任意多边形 20"/>
          <p:cNvSpPr/>
          <p:nvPr/>
        </p:nvSpPr>
        <p:spPr>
          <a:xfrm>
            <a:off x="2576520" y="3633840"/>
            <a:ext cx="3430440" cy="2070000"/>
          </a:xfrm>
          <a:custGeom>
            <a:avLst/>
            <a:gdLst/>
            <a:ahLst/>
            <a:rect l="l" t="t" r="r" b="b"/>
            <a:pathLst>
              <a:path w="3432175" h="2070100">
                <a:moveTo>
                  <a:pt x="3342028" y="910646"/>
                </a:moveTo>
                <a:cubicBezTo>
                  <a:pt x="3362000" y="930618"/>
                  <a:pt x="3385012" y="945597"/>
                  <a:pt x="3409488" y="955583"/>
                </a:cubicBezTo>
                <a:lnTo>
                  <a:pt x="3411185" y="955917"/>
                </a:lnTo>
                <a:lnTo>
                  <a:pt x="3409488" y="955583"/>
                </a:lnTo>
                <a:cubicBezTo>
                  <a:pt x="3385011" y="945597"/>
                  <a:pt x="3362000" y="930618"/>
                  <a:pt x="3342028" y="910646"/>
                </a:cubicBezTo>
                <a:close/>
                <a:moveTo>
                  <a:pt x="2439584" y="0"/>
                </a:moveTo>
                <a:lnTo>
                  <a:pt x="2439584" y="0"/>
                </a:lnTo>
                <a:lnTo>
                  <a:pt x="2456309" y="24926"/>
                </a:lnTo>
                <a:lnTo>
                  <a:pt x="2439584" y="0"/>
                </a:lnTo>
                <a:close/>
                <a:moveTo>
                  <a:pt x="104442" y="0"/>
                </a:moveTo>
                <a:cubicBezTo>
                  <a:pt x="1073947" y="0"/>
                  <a:pt x="1751845" y="0"/>
                  <a:pt x="2225842" y="0"/>
                </a:cubicBezTo>
                <a:lnTo>
                  <a:pt x="2398980" y="0"/>
                </a:lnTo>
                <a:lnTo>
                  <a:pt x="2418814" y="69622"/>
                </a:lnTo>
                <a:cubicBezTo>
                  <a:pt x="2428579" y="92141"/>
                  <a:pt x="2441001" y="111760"/>
                  <a:pt x="2455988" y="126739"/>
                </a:cubicBezTo>
                <a:cubicBezTo>
                  <a:pt x="2455988" y="126739"/>
                  <a:pt x="2455988" y="126739"/>
                  <a:pt x="3342220" y="1012459"/>
                </a:cubicBezTo>
                <a:cubicBezTo>
                  <a:pt x="3362204" y="1032431"/>
                  <a:pt x="3385229" y="1047410"/>
                  <a:pt x="3409720" y="1057396"/>
                </a:cubicBezTo>
                <a:lnTo>
                  <a:pt x="3432175" y="1061805"/>
                </a:lnTo>
                <a:lnTo>
                  <a:pt x="3432175" y="1961907"/>
                </a:lnTo>
                <a:cubicBezTo>
                  <a:pt x="3432175" y="2023216"/>
                  <a:pt x="3385356" y="2070100"/>
                  <a:pt x="3327733" y="2070100"/>
                </a:cubicBezTo>
                <a:cubicBezTo>
                  <a:pt x="104442" y="2070100"/>
                  <a:pt x="104442" y="2070100"/>
                  <a:pt x="104442" y="2070100"/>
                </a:cubicBezTo>
                <a:cubicBezTo>
                  <a:pt x="46819" y="2070100"/>
                  <a:pt x="0" y="2023216"/>
                  <a:pt x="0" y="1961907"/>
                </a:cubicBezTo>
                <a:cubicBezTo>
                  <a:pt x="0" y="108194"/>
                  <a:pt x="0" y="108194"/>
                  <a:pt x="0" y="108194"/>
                </a:cubicBezTo>
                <a:cubicBezTo>
                  <a:pt x="0" y="46884"/>
                  <a:pt x="46819" y="0"/>
                  <a:pt x="104442" y="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6" name="任意多边形 21"/>
          <p:cNvSpPr/>
          <p:nvPr/>
        </p:nvSpPr>
        <p:spPr>
          <a:xfrm>
            <a:off x="6122880" y="3633840"/>
            <a:ext cx="3435480" cy="2070000"/>
          </a:xfrm>
          <a:custGeom>
            <a:avLst/>
            <a:gdLst/>
            <a:ahLst/>
            <a:rect l="l" t="t" r="r" b="b"/>
            <a:pathLst>
              <a:path w="3435350" h="2070100">
                <a:moveTo>
                  <a:pt x="1017354" y="0"/>
                </a:moveTo>
                <a:lnTo>
                  <a:pt x="1170647" y="0"/>
                </a:lnTo>
                <a:cubicBezTo>
                  <a:pt x="3327320" y="0"/>
                  <a:pt x="3327320" y="0"/>
                  <a:pt x="3327320" y="0"/>
                </a:cubicBezTo>
                <a:cubicBezTo>
                  <a:pt x="3384936" y="0"/>
                  <a:pt x="3435350" y="46884"/>
                  <a:pt x="3435350" y="108194"/>
                </a:cubicBezTo>
                <a:lnTo>
                  <a:pt x="3435350" y="1961907"/>
                </a:lnTo>
                <a:cubicBezTo>
                  <a:pt x="3435350" y="2023216"/>
                  <a:pt x="3384936" y="2070100"/>
                  <a:pt x="3327320" y="2070100"/>
                </a:cubicBezTo>
                <a:cubicBezTo>
                  <a:pt x="108030" y="2070100"/>
                  <a:pt x="108030" y="2070100"/>
                  <a:pt x="108030" y="2070100"/>
                </a:cubicBezTo>
                <a:cubicBezTo>
                  <a:pt x="46813" y="2070100"/>
                  <a:pt x="0" y="2023216"/>
                  <a:pt x="0" y="1961907"/>
                </a:cubicBezTo>
                <a:cubicBezTo>
                  <a:pt x="0" y="1657782"/>
                  <a:pt x="0" y="1403553"/>
                  <a:pt x="0" y="1191033"/>
                </a:cubicBezTo>
                <a:lnTo>
                  <a:pt x="0" y="1060089"/>
                </a:lnTo>
                <a:lnTo>
                  <a:pt x="13598" y="1057396"/>
                </a:lnTo>
                <a:cubicBezTo>
                  <a:pt x="37654" y="1047410"/>
                  <a:pt x="60027" y="1032431"/>
                  <a:pt x="79142" y="1012459"/>
                </a:cubicBezTo>
                <a:lnTo>
                  <a:pt x="965374" y="126739"/>
                </a:lnTo>
                <a:cubicBezTo>
                  <a:pt x="985358" y="106767"/>
                  <a:pt x="1000563" y="77677"/>
                  <a:pt x="1010881" y="44029"/>
                </a:cubicBezTo>
                <a:lnTo>
                  <a:pt x="1017354" y="0"/>
                </a:lnTo>
                <a:close/>
                <a:moveTo>
                  <a:pt x="981229" y="0"/>
                </a:moveTo>
                <a:lnTo>
                  <a:pt x="981229" y="0"/>
                </a:lnTo>
                <a:lnTo>
                  <a:pt x="964504" y="24926"/>
                </a:lnTo>
                <a:lnTo>
                  <a:pt x="981229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7" name="TextBox 35"/>
          <p:cNvSpPr/>
          <p:nvPr/>
        </p:nvSpPr>
        <p:spPr>
          <a:xfrm>
            <a:off x="7151400" y="429264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观测到黑色线条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且火星表面的颜色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随着季节的变化而改变颜色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8" name="TextBox 39"/>
          <p:cNvSpPr/>
          <p:nvPr/>
        </p:nvSpPr>
        <p:spPr>
          <a:xfrm>
            <a:off x="3376440" y="427032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地球自转轴和公转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轨道平面的倾角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角度相似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9" name="TextBox 39"/>
          <p:cNvSpPr/>
          <p:nvPr/>
        </p:nvSpPr>
        <p:spPr>
          <a:xfrm>
            <a:off x="7664040" y="2144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自转时间与地球相似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1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图片 1" descr=""/>
          <p:cNvPicPr/>
          <p:nvPr/>
        </p:nvPicPr>
        <p:blipFill>
          <a:blip r:embed="rId1"/>
          <a:stretch/>
        </p:blipFill>
        <p:spPr>
          <a:xfrm>
            <a:off x="0" y="836640"/>
            <a:ext cx="12192120" cy="5995800"/>
          </a:xfrm>
          <a:prstGeom prst="rect">
            <a:avLst/>
          </a:prstGeom>
          <a:ln w="0">
            <a:noFill/>
          </a:ln>
        </p:spPr>
      </p:pic>
      <p:sp>
        <p:nvSpPr>
          <p:cNvPr id="881" name="文本框 38"/>
          <p:cNvSpPr/>
          <p:nvPr/>
        </p:nvSpPr>
        <p:spPr>
          <a:xfrm>
            <a:off x="519120" y="111600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探究过程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82" name="组合 3"/>
          <p:cNvGrpSpPr/>
          <p:nvPr/>
        </p:nvGrpSpPr>
        <p:grpSpPr>
          <a:xfrm>
            <a:off x="196920" y="182520"/>
            <a:ext cx="239760" cy="347760"/>
            <a:chOff x="196920" y="182520"/>
            <a:chExt cx="239760" cy="347760"/>
          </a:xfrm>
        </p:grpSpPr>
        <p:sp>
          <p:nvSpPr>
            <p:cNvPr id="883" name="菱形 39"/>
            <p:cNvSpPr/>
            <p:nvPr/>
          </p:nvSpPr>
          <p:spPr>
            <a:xfrm>
              <a:off x="196920" y="18252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4" name="菱形 40"/>
            <p:cNvSpPr/>
            <p:nvPr/>
          </p:nvSpPr>
          <p:spPr>
            <a:xfrm>
              <a:off x="196920" y="291600"/>
              <a:ext cx="2397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8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886" name="Freeform 10"/>
            <p:cNvSpPr/>
            <p:nvPr/>
          </p:nvSpPr>
          <p:spPr>
            <a:xfrm>
              <a:off x="4802040" y="3714480"/>
              <a:ext cx="533160" cy="1042920"/>
            </a:xfrm>
            <a:custGeom>
              <a:avLst/>
              <a:gdLst/>
              <a:ahLst/>
              <a:rect l="l" t="t" r="r" b="b"/>
              <a:pathLst>
                <a:path w="292" h="572">
                  <a:moveTo>
                    <a:pt x="14" y="572"/>
                  </a:moveTo>
                  <a:cubicBezTo>
                    <a:pt x="4" y="527"/>
                    <a:pt x="0" y="481"/>
                    <a:pt x="0" y="435"/>
                  </a:cubicBezTo>
                  <a:cubicBezTo>
                    <a:pt x="0" y="250"/>
                    <a:pt x="108" y="79"/>
                    <a:pt x="277" y="0"/>
                  </a:cubicBezTo>
                  <a:cubicBezTo>
                    <a:pt x="292" y="33"/>
                    <a:pt x="292" y="33"/>
                    <a:pt x="292" y="33"/>
                  </a:cubicBezTo>
                  <a:cubicBezTo>
                    <a:pt x="136" y="106"/>
                    <a:pt x="36" y="264"/>
                    <a:pt x="36" y="435"/>
                  </a:cubicBezTo>
                  <a:cubicBezTo>
                    <a:pt x="36" y="479"/>
                    <a:pt x="40" y="522"/>
                    <a:pt x="49" y="564"/>
                  </a:cubicBezTo>
                  <a:lnTo>
                    <a:pt x="14" y="572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7" name="Freeform 11"/>
            <p:cNvSpPr/>
            <p:nvPr/>
          </p:nvSpPr>
          <p:spPr>
            <a:xfrm>
              <a:off x="5562720" y="5011920"/>
              <a:ext cx="1620720" cy="652320"/>
            </a:xfrm>
            <a:custGeom>
              <a:avLst/>
              <a:gdLst/>
              <a:ahLst/>
              <a:rect l="l" t="t" r="r" b="b"/>
              <a:pathLst>
                <a:path w="888" h="358">
                  <a:moveTo>
                    <a:pt x="216" y="358"/>
                  </a:moveTo>
                  <a:cubicBezTo>
                    <a:pt x="142" y="358"/>
                    <a:pt x="70" y="345"/>
                    <a:pt x="0" y="320"/>
                  </a:cubicBezTo>
                  <a:cubicBezTo>
                    <a:pt x="13" y="287"/>
                    <a:pt x="13" y="287"/>
                    <a:pt x="13" y="287"/>
                  </a:cubicBezTo>
                  <a:cubicBezTo>
                    <a:pt x="78" y="310"/>
                    <a:pt x="146" y="322"/>
                    <a:pt x="216" y="322"/>
                  </a:cubicBezTo>
                  <a:cubicBezTo>
                    <a:pt x="472" y="322"/>
                    <a:pt x="706" y="205"/>
                    <a:pt x="859" y="0"/>
                  </a:cubicBezTo>
                  <a:cubicBezTo>
                    <a:pt x="888" y="22"/>
                    <a:pt x="888" y="22"/>
                    <a:pt x="888" y="22"/>
                  </a:cubicBezTo>
                  <a:cubicBezTo>
                    <a:pt x="812" y="124"/>
                    <a:pt x="711" y="209"/>
                    <a:pt x="598" y="267"/>
                  </a:cubicBezTo>
                  <a:cubicBezTo>
                    <a:pt x="479" y="327"/>
                    <a:pt x="351" y="358"/>
                    <a:pt x="216" y="35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88" name="Freeform 12"/>
            <p:cNvSpPr/>
            <p:nvPr/>
          </p:nvSpPr>
          <p:spPr>
            <a:xfrm>
              <a:off x="7201080" y="3195360"/>
              <a:ext cx="274320" cy="717480"/>
            </a:xfrm>
            <a:custGeom>
              <a:avLst/>
              <a:gdLst/>
              <a:ahLst/>
              <a:rect l="l" t="t" r="r" b="b"/>
              <a:pathLst>
                <a:path w="150" h="393">
                  <a:moveTo>
                    <a:pt x="114" y="393"/>
                  </a:moveTo>
                  <a:cubicBezTo>
                    <a:pt x="100" y="261"/>
                    <a:pt x="61" y="135"/>
                    <a:pt x="0" y="1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95" y="122"/>
                    <a:pt x="135" y="253"/>
                    <a:pt x="150" y="389"/>
                  </a:cubicBezTo>
                  <a:lnTo>
                    <a:pt x="114" y="39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88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Freeform 5"/>
            <p:cNvSpPr/>
            <p:nvPr/>
          </p:nvSpPr>
          <p:spPr>
            <a:xfrm>
              <a:off x="5276880" y="3198240"/>
              <a:ext cx="925560" cy="925560"/>
            </a:xfrm>
            <a:custGeom>
              <a:avLst/>
              <a:gdLst/>
              <a:ahLst/>
              <a:rect l="l" t="t" r="r" b="b"/>
              <a:pathLst>
                <a:path w="507" h="507">
                  <a:moveTo>
                    <a:pt x="253" y="507"/>
                  </a:moveTo>
                  <a:cubicBezTo>
                    <a:pt x="113" y="507"/>
                    <a:pt x="0" y="393"/>
                    <a:pt x="0" y="253"/>
                  </a:cubicBezTo>
                  <a:cubicBezTo>
                    <a:pt x="0" y="114"/>
                    <a:pt x="113" y="0"/>
                    <a:pt x="253" y="0"/>
                  </a:cubicBezTo>
                  <a:cubicBezTo>
                    <a:pt x="393" y="0"/>
                    <a:pt x="507" y="114"/>
                    <a:pt x="507" y="253"/>
                  </a:cubicBezTo>
                  <a:cubicBezTo>
                    <a:pt x="507" y="393"/>
                    <a:pt x="393" y="507"/>
                    <a:pt x="253" y="507"/>
                  </a:cubicBezTo>
                  <a:close/>
                  <a:moveTo>
                    <a:pt x="253" y="40"/>
                  </a:moveTo>
                  <a:cubicBezTo>
                    <a:pt x="136" y="40"/>
                    <a:pt x="40" y="136"/>
                    <a:pt x="40" y="253"/>
                  </a:cubicBezTo>
                  <a:cubicBezTo>
                    <a:pt x="40" y="371"/>
                    <a:pt x="136" y="467"/>
                    <a:pt x="253" y="467"/>
                  </a:cubicBezTo>
                  <a:cubicBezTo>
                    <a:pt x="371" y="467"/>
                    <a:pt x="467" y="371"/>
                    <a:pt x="467" y="253"/>
                  </a:cubicBezTo>
                  <a:cubicBezTo>
                    <a:pt x="467" y="136"/>
                    <a:pt x="371" y="40"/>
                    <a:pt x="253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91" name="Freeform 6"/>
            <p:cNvSpPr/>
            <p:nvPr/>
          </p:nvSpPr>
          <p:spPr>
            <a:xfrm>
              <a:off x="4532400" y="4649760"/>
              <a:ext cx="1173240" cy="1173240"/>
            </a:xfrm>
            <a:custGeom>
              <a:avLst/>
              <a:gdLst/>
              <a:ahLst/>
              <a:rect l="l" t="t" r="r" b="b"/>
              <a:pathLst>
                <a:path w="643" h="643">
                  <a:moveTo>
                    <a:pt x="322" y="643"/>
                  </a:moveTo>
                  <a:cubicBezTo>
                    <a:pt x="145" y="643"/>
                    <a:pt x="0" y="498"/>
                    <a:pt x="0" y="321"/>
                  </a:cubicBezTo>
                  <a:cubicBezTo>
                    <a:pt x="0" y="144"/>
                    <a:pt x="145" y="0"/>
                    <a:pt x="322" y="0"/>
                  </a:cubicBezTo>
                  <a:cubicBezTo>
                    <a:pt x="499" y="0"/>
                    <a:pt x="643" y="144"/>
                    <a:pt x="643" y="321"/>
                  </a:cubicBezTo>
                  <a:cubicBezTo>
                    <a:pt x="643" y="498"/>
                    <a:pt x="499" y="643"/>
                    <a:pt x="322" y="643"/>
                  </a:cubicBezTo>
                  <a:close/>
                  <a:moveTo>
                    <a:pt x="322" y="40"/>
                  </a:moveTo>
                  <a:cubicBezTo>
                    <a:pt x="167" y="40"/>
                    <a:pt x="40" y="166"/>
                    <a:pt x="40" y="321"/>
                  </a:cubicBezTo>
                  <a:cubicBezTo>
                    <a:pt x="40" y="476"/>
                    <a:pt x="167" y="603"/>
                    <a:pt x="322" y="603"/>
                  </a:cubicBezTo>
                  <a:cubicBezTo>
                    <a:pt x="477" y="603"/>
                    <a:pt x="603" y="476"/>
                    <a:pt x="603" y="321"/>
                  </a:cubicBezTo>
                  <a:cubicBezTo>
                    <a:pt x="603" y="166"/>
                    <a:pt x="477" y="40"/>
                    <a:pt x="32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92" name="Freeform 7"/>
            <p:cNvSpPr/>
            <p:nvPr/>
          </p:nvSpPr>
          <p:spPr>
            <a:xfrm>
              <a:off x="6769080" y="3870000"/>
              <a:ext cx="1246320" cy="1246320"/>
            </a:xfrm>
            <a:custGeom>
              <a:avLst/>
              <a:gdLst/>
              <a:ahLst/>
              <a:rect l="l" t="t" r="r" b="b"/>
              <a:pathLst>
                <a:path w="683" h="683">
                  <a:moveTo>
                    <a:pt x="342" y="683"/>
                  </a:moveTo>
                  <a:cubicBezTo>
                    <a:pt x="154" y="683"/>
                    <a:pt x="0" y="530"/>
                    <a:pt x="0" y="341"/>
                  </a:cubicBezTo>
                  <a:cubicBezTo>
                    <a:pt x="0" y="153"/>
                    <a:pt x="154" y="0"/>
                    <a:pt x="342" y="0"/>
                  </a:cubicBezTo>
                  <a:cubicBezTo>
                    <a:pt x="530" y="0"/>
                    <a:pt x="683" y="153"/>
                    <a:pt x="683" y="341"/>
                  </a:cubicBezTo>
                  <a:cubicBezTo>
                    <a:pt x="683" y="530"/>
                    <a:pt x="530" y="683"/>
                    <a:pt x="342" y="683"/>
                  </a:cubicBezTo>
                  <a:close/>
                  <a:moveTo>
                    <a:pt x="342" y="40"/>
                  </a:moveTo>
                  <a:cubicBezTo>
                    <a:pt x="176" y="40"/>
                    <a:pt x="40" y="175"/>
                    <a:pt x="40" y="341"/>
                  </a:cubicBezTo>
                  <a:cubicBezTo>
                    <a:pt x="40" y="508"/>
                    <a:pt x="176" y="643"/>
                    <a:pt x="342" y="643"/>
                  </a:cubicBezTo>
                  <a:cubicBezTo>
                    <a:pt x="508" y="643"/>
                    <a:pt x="643" y="508"/>
                    <a:pt x="643" y="341"/>
                  </a:cubicBezTo>
                  <a:cubicBezTo>
                    <a:pt x="643" y="175"/>
                    <a:pt x="508" y="40"/>
                    <a:pt x="342" y="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93" name="Freeform 8"/>
            <p:cNvSpPr/>
            <p:nvPr/>
          </p:nvSpPr>
          <p:spPr>
            <a:xfrm>
              <a:off x="6123240" y="1977480"/>
              <a:ext cx="1414440" cy="1413000"/>
            </a:xfrm>
            <a:custGeom>
              <a:avLst/>
              <a:gdLst/>
              <a:ahLst/>
              <a:rect l="l" t="t" r="r" b="b"/>
              <a:pathLst>
                <a:path w="775" h="775">
                  <a:moveTo>
                    <a:pt x="388" y="775"/>
                  </a:moveTo>
                  <a:cubicBezTo>
                    <a:pt x="174" y="775"/>
                    <a:pt x="0" y="601"/>
                    <a:pt x="0" y="387"/>
                  </a:cubicBezTo>
                  <a:cubicBezTo>
                    <a:pt x="0" y="174"/>
                    <a:pt x="174" y="0"/>
                    <a:pt x="388" y="0"/>
                  </a:cubicBezTo>
                  <a:cubicBezTo>
                    <a:pt x="602" y="0"/>
                    <a:pt x="775" y="174"/>
                    <a:pt x="775" y="387"/>
                  </a:cubicBezTo>
                  <a:cubicBezTo>
                    <a:pt x="775" y="601"/>
                    <a:pt x="602" y="775"/>
                    <a:pt x="388" y="775"/>
                  </a:cubicBezTo>
                  <a:close/>
                  <a:moveTo>
                    <a:pt x="388" y="44"/>
                  </a:moveTo>
                  <a:cubicBezTo>
                    <a:pt x="199" y="44"/>
                    <a:pt x="44" y="198"/>
                    <a:pt x="44" y="387"/>
                  </a:cubicBezTo>
                  <a:cubicBezTo>
                    <a:pt x="44" y="577"/>
                    <a:pt x="199" y="731"/>
                    <a:pt x="388" y="731"/>
                  </a:cubicBezTo>
                  <a:cubicBezTo>
                    <a:pt x="577" y="731"/>
                    <a:pt x="731" y="577"/>
                    <a:pt x="731" y="387"/>
                  </a:cubicBezTo>
                  <a:cubicBezTo>
                    <a:pt x="731" y="198"/>
                    <a:pt x="577" y="44"/>
                    <a:pt x="388" y="44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89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8" name="Rectangle 77"/>
          <p:cNvSpPr/>
          <p:nvPr/>
        </p:nvSpPr>
        <p:spPr>
          <a:xfrm>
            <a:off x="7726320" y="2577960"/>
            <a:ext cx="42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为了对火星作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微软雅黑"/>
                <a:ea typeface="微软雅黑"/>
              </a:rPr>
              <a:t>进一步</a:t>
            </a:r>
            <a:r>
              <a:rPr b="0" i="1" lang="zh-CN" sz="28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考察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9" name="Rectangle 79"/>
          <p:cNvSpPr/>
          <p:nvPr/>
        </p:nvSpPr>
        <p:spPr>
          <a:xfrm>
            <a:off x="2265480" y="315900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对此存疑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0" name="Rectangle 81"/>
          <p:cNvSpPr/>
          <p:nvPr/>
        </p:nvSpPr>
        <p:spPr>
          <a:xfrm>
            <a:off x="8142120" y="431640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科学家们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微软雅黑"/>
                <a:ea typeface="微软雅黑"/>
              </a:rPr>
              <a:t>还</a:t>
            </a:r>
            <a:r>
              <a:rPr b="0" i="1" lang="zh-CN" sz="28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发现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1" name="Rectangle 83"/>
          <p:cNvSpPr/>
          <p:nvPr/>
        </p:nvSpPr>
        <p:spPr>
          <a:xfrm>
            <a:off x="1738440" y="5070600"/>
            <a:ext cx="269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科学家们</a:t>
            </a: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微软雅黑"/>
                <a:ea typeface="微软雅黑"/>
              </a:rPr>
              <a:t>决定</a:t>
            </a: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利用宇宙飞船对火星作近距离的观测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02" name="组合 47"/>
          <p:cNvGrpSpPr/>
          <p:nvPr/>
        </p:nvGrpSpPr>
        <p:grpSpPr>
          <a:xfrm>
            <a:off x="4016880" y="1414440"/>
            <a:ext cx="1056960" cy="1011960"/>
            <a:chOff x="4016880" y="1414440"/>
            <a:chExt cx="1056960" cy="1011960"/>
          </a:xfrm>
        </p:grpSpPr>
        <p:sp>
          <p:nvSpPr>
            <p:cNvPr id="903" name="TextBox 86"/>
            <p:cNvSpPr/>
            <p:nvPr/>
          </p:nvSpPr>
          <p:spPr>
            <a:xfrm>
              <a:off x="4039560" y="1905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依旧存疑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4016880" y="1414440"/>
              <a:ext cx="465480" cy="42696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46" y="3"/>
                  </a:moveTo>
                  <a:cubicBezTo>
                    <a:pt x="46" y="3"/>
                    <a:pt x="36" y="8"/>
                    <a:pt x="25" y="4"/>
                  </a:cubicBezTo>
                  <a:cubicBezTo>
                    <a:pt x="14" y="0"/>
                    <a:pt x="9" y="2"/>
                    <a:pt x="4" y="8"/>
                  </a:cubicBezTo>
                  <a:cubicBezTo>
                    <a:pt x="3" y="7"/>
                    <a:pt x="2" y="7"/>
                    <a:pt x="1" y="8"/>
                  </a:cubicBezTo>
                  <a:cubicBezTo>
                    <a:pt x="0" y="8"/>
                    <a:pt x="0" y="10"/>
                    <a:pt x="1" y="11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8" y="57"/>
                    <a:pt x="29" y="57"/>
                    <a:pt x="30" y="57"/>
                  </a:cubicBezTo>
                  <a:cubicBezTo>
                    <a:pt x="31" y="57"/>
                    <a:pt x="31" y="57"/>
                    <a:pt x="32" y="57"/>
                  </a:cubicBezTo>
                  <a:cubicBezTo>
                    <a:pt x="33" y="56"/>
                    <a:pt x="33" y="54"/>
                    <a:pt x="32" y="5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5" y="27"/>
                    <a:pt x="30" y="26"/>
                    <a:pt x="41" y="30"/>
                  </a:cubicBezTo>
                  <a:cubicBezTo>
                    <a:pt x="52" y="33"/>
                    <a:pt x="62" y="28"/>
                    <a:pt x="62" y="28"/>
                  </a:cubicBezTo>
                  <a:lnTo>
                    <a:pt x="46" y="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8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1" descr=""/>
          <p:cNvPicPr/>
          <p:nvPr/>
        </p:nvPicPr>
        <p:blipFill>
          <a:blip r:embed="rId1"/>
          <a:stretch/>
        </p:blipFill>
        <p:spPr>
          <a:xfrm>
            <a:off x="695160" y="746280"/>
            <a:ext cx="10849320" cy="6124320"/>
          </a:xfrm>
          <a:prstGeom prst="rect">
            <a:avLst/>
          </a:prstGeom>
          <a:ln w="0">
            <a:noFill/>
          </a:ln>
        </p:spPr>
      </p:pic>
      <p:grpSp>
        <p:nvGrpSpPr>
          <p:cNvPr id="906" name="组合 5"/>
          <p:cNvGrpSpPr/>
          <p:nvPr/>
        </p:nvGrpSpPr>
        <p:grpSpPr>
          <a:xfrm>
            <a:off x="3371760" y="1308240"/>
            <a:ext cx="4164120" cy="3587760"/>
            <a:chOff x="3371760" y="1308240"/>
            <a:chExt cx="4164120" cy="3587760"/>
          </a:xfrm>
        </p:grpSpPr>
        <p:sp>
          <p:nvSpPr>
            <p:cNvPr id="907" name="文本框 71"/>
            <p:cNvSpPr/>
            <p:nvPr/>
          </p:nvSpPr>
          <p:spPr>
            <a:xfrm>
              <a:off x="3393720" y="3472200"/>
              <a:ext cx="4142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908" name="组合 88"/>
            <p:cNvGrpSpPr/>
            <p:nvPr/>
          </p:nvGrpSpPr>
          <p:grpSpPr>
            <a:xfrm>
              <a:off x="3400560" y="3150000"/>
              <a:ext cx="4092120" cy="59760"/>
              <a:chOff x="3400560" y="3150000"/>
              <a:chExt cx="4092120" cy="59760"/>
            </a:xfrm>
          </p:grpSpPr>
          <p:sp>
            <p:nvSpPr>
              <p:cNvPr id="909" name="椭圆 68"/>
              <p:cNvSpPr/>
              <p:nvPr/>
            </p:nvSpPr>
            <p:spPr>
              <a:xfrm flipV="1">
                <a:off x="5393520" y="3150000"/>
                <a:ext cx="71280" cy="5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0" name="直接连接符 72"/>
              <p:cNvSpPr/>
              <p:nvPr/>
            </p:nvSpPr>
            <p:spPr>
              <a:xfrm>
                <a:off x="3400560" y="3170520"/>
                <a:ext cx="184860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11" name="直接连接符 87"/>
              <p:cNvSpPr/>
              <p:nvPr/>
            </p:nvSpPr>
            <p:spPr>
              <a:xfrm>
                <a:off x="5615280" y="3170520"/>
                <a:ext cx="187740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12" name="组合 28"/>
            <p:cNvGrpSpPr/>
            <p:nvPr/>
          </p:nvGrpSpPr>
          <p:grpSpPr>
            <a:xfrm>
              <a:off x="3371760" y="1308240"/>
              <a:ext cx="4069080" cy="3587760"/>
              <a:chOff x="3371760" y="1308240"/>
              <a:chExt cx="4069080" cy="3587760"/>
            </a:xfrm>
          </p:grpSpPr>
          <p:grpSp>
            <p:nvGrpSpPr>
              <p:cNvPr id="913" name="组合 6"/>
              <p:cNvGrpSpPr/>
              <p:nvPr/>
            </p:nvGrpSpPr>
            <p:grpSpPr>
              <a:xfrm>
                <a:off x="3371760" y="1308240"/>
                <a:ext cx="4069080" cy="637200"/>
                <a:chOff x="3371760" y="1308240"/>
                <a:chExt cx="4069080" cy="637200"/>
              </a:xfrm>
            </p:grpSpPr>
            <p:grpSp>
              <p:nvGrpSpPr>
                <p:cNvPr id="914" name="组合 15"/>
                <p:cNvGrpSpPr/>
                <p:nvPr/>
              </p:nvGrpSpPr>
              <p:grpSpPr>
                <a:xfrm>
                  <a:off x="4636800" y="1308240"/>
                  <a:ext cx="1506600" cy="637200"/>
                  <a:chOff x="4636800" y="1308240"/>
                  <a:chExt cx="1506600" cy="637200"/>
                </a:xfrm>
              </p:grpSpPr>
              <p:sp>
                <p:nvSpPr>
                  <p:cNvPr id="915" name="菱形 2"/>
                  <p:cNvSpPr/>
                  <p:nvPr/>
                </p:nvSpPr>
                <p:spPr>
                  <a:xfrm>
                    <a:off x="5139000" y="1308240"/>
                    <a:ext cx="506880" cy="42624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916" name="组合 8"/>
                  <p:cNvGrpSpPr/>
                  <p:nvPr/>
                </p:nvGrpSpPr>
                <p:grpSpPr>
                  <a:xfrm>
                    <a:off x="4636800" y="1734480"/>
                    <a:ext cx="501840" cy="210960"/>
                    <a:chOff x="4636800" y="1734480"/>
                    <a:chExt cx="501840" cy="210960"/>
                  </a:xfrm>
                </p:grpSpPr>
                <p:sp>
                  <p:nvSpPr>
                    <p:cNvPr id="917" name="直接连接符 4"/>
                    <p:cNvSpPr/>
                    <p:nvPr/>
                  </p:nvSpPr>
                  <p:spPr>
                    <a:xfrm flipV="1">
                      <a:off x="4636800" y="173448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18" name="直接连接符 7"/>
                    <p:cNvSpPr/>
                    <p:nvPr/>
                  </p:nvSpPr>
                  <p:spPr>
                    <a:xfrm flipH="1" flipV="1">
                      <a:off x="4887720" y="173448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组合 9"/>
                  <p:cNvGrpSpPr/>
                  <p:nvPr/>
                </p:nvGrpSpPr>
                <p:grpSpPr>
                  <a:xfrm>
                    <a:off x="5139000" y="1734480"/>
                    <a:ext cx="501840" cy="210960"/>
                    <a:chOff x="5139000" y="1734480"/>
                    <a:chExt cx="501840" cy="210960"/>
                  </a:xfrm>
                </p:grpSpPr>
                <p:sp>
                  <p:nvSpPr>
                    <p:cNvPr id="920" name="直接连接符 10"/>
                    <p:cNvSpPr/>
                    <p:nvPr/>
                  </p:nvSpPr>
                  <p:spPr>
                    <a:xfrm flipV="1">
                      <a:off x="5139000" y="173448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21" name="直接连接符 11"/>
                    <p:cNvSpPr/>
                    <p:nvPr/>
                  </p:nvSpPr>
                  <p:spPr>
                    <a:xfrm flipH="1" flipV="1">
                      <a:off x="5389920" y="173448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2" name="组合 12"/>
                  <p:cNvGrpSpPr/>
                  <p:nvPr/>
                </p:nvGrpSpPr>
                <p:grpSpPr>
                  <a:xfrm>
                    <a:off x="5641560" y="1734480"/>
                    <a:ext cx="501840" cy="210960"/>
                    <a:chOff x="5641560" y="1734480"/>
                    <a:chExt cx="501840" cy="210960"/>
                  </a:xfrm>
                </p:grpSpPr>
                <p:sp>
                  <p:nvSpPr>
                    <p:cNvPr id="923" name="直接连接符 13"/>
                    <p:cNvSpPr/>
                    <p:nvPr/>
                  </p:nvSpPr>
                  <p:spPr>
                    <a:xfrm flipV="1">
                      <a:off x="5641560" y="173448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24" name="直接连接符 14"/>
                    <p:cNvSpPr/>
                    <p:nvPr/>
                  </p:nvSpPr>
                  <p:spPr>
                    <a:xfrm flipH="1" flipV="1">
                      <a:off x="5892480" y="173448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25" name="直接连接符 31"/>
                <p:cNvSpPr/>
                <p:nvPr/>
              </p:nvSpPr>
              <p:spPr>
                <a:xfrm>
                  <a:off x="6144120" y="1945440"/>
                  <a:ext cx="12967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26" name="直接连接符 33"/>
                <p:cNvSpPr/>
                <p:nvPr/>
              </p:nvSpPr>
              <p:spPr>
                <a:xfrm>
                  <a:off x="3371760" y="1945440"/>
                  <a:ext cx="126504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27" name="组合 54"/>
              <p:cNvGrpSpPr/>
              <p:nvPr/>
            </p:nvGrpSpPr>
            <p:grpSpPr>
              <a:xfrm>
                <a:off x="3371760" y="4258800"/>
                <a:ext cx="4069080" cy="637200"/>
                <a:chOff x="3371760" y="4258800"/>
                <a:chExt cx="4069080" cy="637200"/>
              </a:xfrm>
            </p:grpSpPr>
            <p:grpSp>
              <p:nvGrpSpPr>
                <p:cNvPr id="928" name="组合 55"/>
                <p:cNvGrpSpPr/>
                <p:nvPr/>
              </p:nvGrpSpPr>
              <p:grpSpPr>
                <a:xfrm>
                  <a:off x="4636800" y="4258800"/>
                  <a:ext cx="1506600" cy="637200"/>
                  <a:chOff x="4636800" y="4258800"/>
                  <a:chExt cx="1506600" cy="637200"/>
                </a:xfrm>
              </p:grpSpPr>
              <p:sp>
                <p:nvSpPr>
                  <p:cNvPr id="929" name="菱形 58"/>
                  <p:cNvSpPr/>
                  <p:nvPr/>
                </p:nvSpPr>
                <p:spPr>
                  <a:xfrm flipV="1">
                    <a:off x="5139000" y="4469760"/>
                    <a:ext cx="506880" cy="42624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930" name="组合 59"/>
                  <p:cNvGrpSpPr/>
                  <p:nvPr/>
                </p:nvGrpSpPr>
                <p:grpSpPr>
                  <a:xfrm>
                    <a:off x="4636800" y="4258800"/>
                    <a:ext cx="501840" cy="210960"/>
                    <a:chOff x="4636800" y="4258800"/>
                    <a:chExt cx="501840" cy="210960"/>
                  </a:xfrm>
                </p:grpSpPr>
                <p:sp>
                  <p:nvSpPr>
                    <p:cNvPr id="931" name="直接连接符 66"/>
                    <p:cNvSpPr/>
                    <p:nvPr/>
                  </p:nvSpPr>
                  <p:spPr>
                    <a:xfrm>
                      <a:off x="4636800" y="425880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32" name="直接连接符 67"/>
                    <p:cNvSpPr/>
                    <p:nvPr/>
                  </p:nvSpPr>
                  <p:spPr>
                    <a:xfrm flipH="1">
                      <a:off x="4887720" y="425880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3" name="组合 60"/>
                  <p:cNvGrpSpPr/>
                  <p:nvPr/>
                </p:nvGrpSpPr>
                <p:grpSpPr>
                  <a:xfrm>
                    <a:off x="5139000" y="4258800"/>
                    <a:ext cx="501840" cy="210960"/>
                    <a:chOff x="5139000" y="4258800"/>
                    <a:chExt cx="501840" cy="210960"/>
                  </a:xfrm>
                </p:grpSpPr>
                <p:sp>
                  <p:nvSpPr>
                    <p:cNvPr id="934" name="直接连接符 64"/>
                    <p:cNvSpPr/>
                    <p:nvPr/>
                  </p:nvSpPr>
                  <p:spPr>
                    <a:xfrm>
                      <a:off x="5139000" y="425880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35" name="直接连接符 65"/>
                    <p:cNvSpPr/>
                    <p:nvPr/>
                  </p:nvSpPr>
                  <p:spPr>
                    <a:xfrm flipH="1">
                      <a:off x="5389920" y="425880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6" name="组合 61"/>
                  <p:cNvGrpSpPr/>
                  <p:nvPr/>
                </p:nvGrpSpPr>
                <p:grpSpPr>
                  <a:xfrm>
                    <a:off x="5641560" y="4258800"/>
                    <a:ext cx="501840" cy="210960"/>
                    <a:chOff x="5641560" y="4258800"/>
                    <a:chExt cx="501840" cy="210960"/>
                  </a:xfrm>
                </p:grpSpPr>
                <p:sp>
                  <p:nvSpPr>
                    <p:cNvPr id="937" name="直接连接符 62"/>
                    <p:cNvSpPr/>
                    <p:nvPr/>
                  </p:nvSpPr>
                  <p:spPr>
                    <a:xfrm>
                      <a:off x="5641560" y="425880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38" name="直接连接符 63"/>
                    <p:cNvSpPr/>
                    <p:nvPr/>
                  </p:nvSpPr>
                  <p:spPr>
                    <a:xfrm flipH="1">
                      <a:off x="5892480" y="4258800"/>
                      <a:ext cx="250920" cy="21096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9" name="直接连接符 56"/>
                <p:cNvSpPr/>
                <p:nvPr/>
              </p:nvSpPr>
              <p:spPr>
                <a:xfrm>
                  <a:off x="6144120" y="4258800"/>
                  <a:ext cx="12967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40" name="直接连接符 57"/>
                <p:cNvSpPr/>
                <p:nvPr/>
              </p:nvSpPr>
              <p:spPr>
                <a:xfrm>
                  <a:off x="3371760" y="4258800"/>
                  <a:ext cx="126504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941" name="矩形 2"/>
          <p:cNvSpPr/>
          <p:nvPr/>
        </p:nvSpPr>
        <p:spPr>
          <a:xfrm>
            <a:off x="1380960" y="1365120"/>
            <a:ext cx="84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写作的重点为何在“火星”上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2" name="TextBox 38"/>
          <p:cNvSpPr/>
          <p:nvPr/>
        </p:nvSpPr>
        <p:spPr>
          <a:xfrm>
            <a:off x="3083040" y="3130560"/>
            <a:ext cx="58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因为火星和地球非常相似，火星探索方面的资料也较为详尽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星空5"/>
          <p:cNvPicPr/>
          <p:nvPr/>
        </p:nvPicPr>
        <p:blipFill>
          <a:blip r:embed="rId1"/>
          <a:stretch/>
        </p:blipFill>
        <p:spPr>
          <a:xfrm>
            <a:off x="0" y="765000"/>
            <a:ext cx="12192120" cy="6093000"/>
          </a:xfrm>
          <a:prstGeom prst="rect">
            <a:avLst/>
          </a:prstGeom>
          <a:ln w="0">
            <a:noFill/>
          </a:ln>
        </p:spPr>
      </p:pic>
      <p:sp>
        <p:nvSpPr>
          <p:cNvPr id="944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5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6" name="矩形 4"/>
          <p:cNvSpPr/>
          <p:nvPr/>
        </p:nvSpPr>
        <p:spPr>
          <a:xfrm>
            <a:off x="5160960" y="4257720"/>
            <a:ext cx="2158920" cy="522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7" name="文本框 5"/>
          <p:cNvSpPr/>
          <p:nvPr/>
        </p:nvSpPr>
        <p:spPr>
          <a:xfrm>
            <a:off x="2495520" y="52657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微软雅黑"/>
              </a:rPr>
              <a:t>人们至今尚未在地球以外的太空中找到生命，但仍然相信遥远的太空存在着生命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/>
          </p:nvPr>
        </p:nvSpPr>
        <p:spPr>
          <a:xfrm>
            <a:off x="2063520" y="6165720"/>
            <a:ext cx="388764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征三号运载火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4" descr="13_100409095731_1"/>
          <p:cNvPicPr/>
          <p:nvPr/>
        </p:nvPicPr>
        <p:blipFill>
          <a:blip r:embed="rId1"/>
          <a:stretch/>
        </p:blipFill>
        <p:spPr>
          <a:xfrm>
            <a:off x="1992240" y="692280"/>
            <a:ext cx="4076640" cy="54291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5" descr="U2107P1T1D7910553F21DT20070913105207"/>
          <p:cNvPicPr/>
          <p:nvPr/>
        </p:nvPicPr>
        <p:blipFill>
          <a:blip r:embed="rId2"/>
          <a:stretch/>
        </p:blipFill>
        <p:spPr>
          <a:xfrm>
            <a:off x="6311880" y="620640"/>
            <a:ext cx="3683160" cy="5538960"/>
          </a:xfrm>
          <a:prstGeom prst="rect">
            <a:avLst/>
          </a:prstGeom>
          <a:ln w="0">
            <a:noFill/>
          </a:ln>
        </p:spPr>
      </p:pic>
      <p:sp>
        <p:nvSpPr>
          <p:cNvPr id="951" name="Rectangle 6"/>
          <p:cNvSpPr/>
          <p:nvPr/>
        </p:nvSpPr>
        <p:spPr>
          <a:xfrm>
            <a:off x="6254640" y="6192720"/>
            <a:ext cx="388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长征二号运载火箭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银河系2"/>
          <p:cNvPicPr/>
          <p:nvPr/>
        </p:nvPicPr>
        <p:blipFill>
          <a:blip r:embed="rId1"/>
          <a:stretch/>
        </p:blipFill>
        <p:spPr>
          <a:xfrm>
            <a:off x="2351160" y="638280"/>
            <a:ext cx="8354880" cy="62197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>
            <a:hlinkClick r:id="rId2"/>
          </p:cNvPr>
          <p:cNvSpPr/>
          <p:nvPr/>
        </p:nvSpPr>
        <p:spPr>
          <a:xfrm>
            <a:off x="1799640" y="1628640"/>
            <a:ext cx="2790000" cy="223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(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总星系</a:t>
            </a: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)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宇宙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>
            <a:off x="4626000" y="1484280"/>
            <a:ext cx="533520" cy="2438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871880" y="1125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</a:rPr>
              <a:t>河外星系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5087880" y="3357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</a:rPr>
              <a:t>银河系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AutoShape 8"/>
          <p:cNvSpPr/>
          <p:nvPr/>
        </p:nvSpPr>
        <p:spPr>
          <a:xfrm>
            <a:off x="7034040" y="270828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7319880" y="2421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</a:rPr>
              <a:t>其它恒星系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682040" y="4149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</a:rPr>
              <a:t>太阳系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10973-1"/>
          <p:cNvPicPr/>
          <p:nvPr/>
        </p:nvPicPr>
        <p:blipFill>
          <a:blip r:embed="rId1"/>
          <a:stretch/>
        </p:blipFill>
        <p:spPr>
          <a:xfrm>
            <a:off x="2135160" y="668160"/>
            <a:ext cx="8354880" cy="619308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5522400" y="6094440"/>
            <a:ext cx="23734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舟五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2" descr="神天"/>
          <p:cNvPicPr/>
          <p:nvPr/>
        </p:nvPicPr>
        <p:blipFill>
          <a:blip r:embed="rId1"/>
          <a:stretch/>
        </p:blipFill>
        <p:spPr>
          <a:xfrm>
            <a:off x="2351160" y="998640"/>
            <a:ext cx="7812000" cy="5859360"/>
          </a:xfrm>
          <a:prstGeom prst="rect">
            <a:avLst/>
          </a:prstGeom>
          <a:ln w="0">
            <a:noFill/>
          </a:ln>
        </p:spPr>
      </p:pic>
      <p:sp>
        <p:nvSpPr>
          <p:cNvPr id="955" name="Text Box 3"/>
          <p:cNvSpPr/>
          <p:nvPr/>
        </p:nvSpPr>
        <p:spPr>
          <a:xfrm>
            <a:off x="7104240" y="4221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天宫一号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6" name="Text Box 4"/>
          <p:cNvSpPr/>
          <p:nvPr/>
        </p:nvSpPr>
        <p:spPr>
          <a:xfrm>
            <a:off x="3935520" y="32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神舟九号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1992240" y="5949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嫦娥”二号探月卫星发射升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4" descr="W020071025355919458765"/>
          <p:cNvPicPr/>
          <p:nvPr/>
        </p:nvPicPr>
        <p:blipFill>
          <a:blip r:embed="rId1"/>
          <a:stretch/>
        </p:blipFill>
        <p:spPr>
          <a:xfrm>
            <a:off x="2208240" y="711360"/>
            <a:ext cx="80280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839880" y="1058760"/>
            <a:ext cx="10512360" cy="5799240"/>
          </a:xfrm>
          <a:prstGeom prst="rect">
            <a:avLst/>
          </a:prstGeom>
          <a:ln w="0">
            <a:noFill/>
          </a:ln>
        </p:spPr>
      </p:pic>
      <p:grpSp>
        <p:nvGrpSpPr>
          <p:cNvPr id="960" name="组合 5"/>
          <p:cNvGrpSpPr/>
          <p:nvPr/>
        </p:nvGrpSpPr>
        <p:grpSpPr>
          <a:xfrm>
            <a:off x="3408480" y="1763640"/>
            <a:ext cx="4035240" cy="4940280"/>
            <a:chOff x="3408480" y="1763640"/>
            <a:chExt cx="4035240" cy="4940280"/>
          </a:xfrm>
        </p:grpSpPr>
        <p:sp>
          <p:nvSpPr>
            <p:cNvPr id="961" name="文本框 71"/>
            <p:cNvSpPr/>
            <p:nvPr/>
          </p:nvSpPr>
          <p:spPr>
            <a:xfrm>
              <a:off x="3429360" y="4743360"/>
              <a:ext cx="4014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962" name="组合 88"/>
            <p:cNvGrpSpPr/>
            <p:nvPr/>
          </p:nvGrpSpPr>
          <p:grpSpPr>
            <a:xfrm>
              <a:off x="3436200" y="4299480"/>
              <a:ext cx="3965400" cy="82440"/>
              <a:chOff x="3436200" y="4299480"/>
              <a:chExt cx="3965400" cy="82440"/>
            </a:xfrm>
          </p:grpSpPr>
          <p:sp>
            <p:nvSpPr>
              <p:cNvPr id="963" name="椭圆 68"/>
              <p:cNvSpPr/>
              <p:nvPr/>
            </p:nvSpPr>
            <p:spPr>
              <a:xfrm flipV="1">
                <a:off x="5367240" y="4299120"/>
                <a:ext cx="6912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4" name="直接连接符 72"/>
              <p:cNvSpPr/>
              <p:nvPr/>
            </p:nvSpPr>
            <p:spPr>
              <a:xfrm>
                <a:off x="3436200" y="4328280"/>
                <a:ext cx="179136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5" name="直接连接符 87"/>
              <p:cNvSpPr/>
              <p:nvPr/>
            </p:nvSpPr>
            <p:spPr>
              <a:xfrm>
                <a:off x="5582160" y="4328280"/>
                <a:ext cx="18194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66" name="组合 28"/>
            <p:cNvGrpSpPr/>
            <p:nvPr/>
          </p:nvGrpSpPr>
          <p:grpSpPr>
            <a:xfrm>
              <a:off x="3408480" y="1763640"/>
              <a:ext cx="3943080" cy="4940280"/>
              <a:chOff x="3408480" y="1763640"/>
              <a:chExt cx="3943080" cy="4940280"/>
            </a:xfrm>
          </p:grpSpPr>
          <p:grpSp>
            <p:nvGrpSpPr>
              <p:cNvPr id="967" name="组合 6"/>
              <p:cNvGrpSpPr/>
              <p:nvPr/>
            </p:nvGrpSpPr>
            <p:grpSpPr>
              <a:xfrm>
                <a:off x="3408480" y="1763640"/>
                <a:ext cx="3943080" cy="877680"/>
                <a:chOff x="3408480" y="1763640"/>
                <a:chExt cx="3943080" cy="877680"/>
              </a:xfrm>
            </p:grpSpPr>
            <p:grpSp>
              <p:nvGrpSpPr>
                <p:cNvPr id="968" name="组合 15"/>
                <p:cNvGrpSpPr/>
                <p:nvPr/>
              </p:nvGrpSpPr>
              <p:grpSpPr>
                <a:xfrm>
                  <a:off x="4634280" y="1763640"/>
                  <a:ext cx="1460520" cy="877320"/>
                  <a:chOff x="4634280" y="1763640"/>
                  <a:chExt cx="1460520" cy="877320"/>
                </a:xfrm>
              </p:grpSpPr>
              <p:sp>
                <p:nvSpPr>
                  <p:cNvPr id="969" name="菱形 2"/>
                  <p:cNvSpPr/>
                  <p:nvPr/>
                </p:nvSpPr>
                <p:spPr>
                  <a:xfrm>
                    <a:off x="5121000" y="1763640"/>
                    <a:ext cx="491400" cy="58716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970" name="组合 8"/>
                  <p:cNvGrpSpPr/>
                  <p:nvPr/>
                </p:nvGrpSpPr>
                <p:grpSpPr>
                  <a:xfrm>
                    <a:off x="4634280" y="2350440"/>
                    <a:ext cx="486720" cy="290520"/>
                    <a:chOff x="4634280" y="2350440"/>
                    <a:chExt cx="486720" cy="290520"/>
                  </a:xfrm>
                </p:grpSpPr>
                <p:sp>
                  <p:nvSpPr>
                    <p:cNvPr id="971" name="直接连接符 4"/>
                    <p:cNvSpPr/>
                    <p:nvPr/>
                  </p:nvSpPr>
                  <p:spPr>
                    <a:xfrm flipV="1">
                      <a:off x="4634280" y="235044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72" name="直接连接符 7"/>
                    <p:cNvSpPr/>
                    <p:nvPr/>
                  </p:nvSpPr>
                  <p:spPr>
                    <a:xfrm flipH="1" flipV="1">
                      <a:off x="4877640" y="235044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3" name="组合 9"/>
                  <p:cNvGrpSpPr/>
                  <p:nvPr/>
                </p:nvGrpSpPr>
                <p:grpSpPr>
                  <a:xfrm>
                    <a:off x="5121000" y="2350440"/>
                    <a:ext cx="486720" cy="290520"/>
                    <a:chOff x="5121000" y="2350440"/>
                    <a:chExt cx="486720" cy="290520"/>
                  </a:xfrm>
                </p:grpSpPr>
                <p:sp>
                  <p:nvSpPr>
                    <p:cNvPr id="974" name="直接连接符 10"/>
                    <p:cNvSpPr/>
                    <p:nvPr/>
                  </p:nvSpPr>
                  <p:spPr>
                    <a:xfrm flipV="1">
                      <a:off x="5121000" y="235044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75" name="直接连接符 11"/>
                    <p:cNvSpPr/>
                    <p:nvPr/>
                  </p:nvSpPr>
                  <p:spPr>
                    <a:xfrm flipH="1" flipV="1">
                      <a:off x="5364360" y="235044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6" name="组合 12"/>
                  <p:cNvGrpSpPr/>
                  <p:nvPr/>
                </p:nvGrpSpPr>
                <p:grpSpPr>
                  <a:xfrm>
                    <a:off x="5608080" y="2350440"/>
                    <a:ext cx="486720" cy="290520"/>
                    <a:chOff x="5608080" y="2350440"/>
                    <a:chExt cx="486720" cy="290520"/>
                  </a:xfrm>
                </p:grpSpPr>
                <p:sp>
                  <p:nvSpPr>
                    <p:cNvPr id="977" name="直接连接符 13"/>
                    <p:cNvSpPr/>
                    <p:nvPr/>
                  </p:nvSpPr>
                  <p:spPr>
                    <a:xfrm flipV="1">
                      <a:off x="5608080" y="235044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78" name="直接连接符 14"/>
                    <p:cNvSpPr/>
                    <p:nvPr/>
                  </p:nvSpPr>
                  <p:spPr>
                    <a:xfrm flipH="1" flipV="1">
                      <a:off x="5851440" y="235044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79" name="直接连接符 31"/>
                <p:cNvSpPr/>
                <p:nvPr/>
              </p:nvSpPr>
              <p:spPr>
                <a:xfrm>
                  <a:off x="6094800" y="2641320"/>
                  <a:ext cx="125676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80" name="直接连接符 33"/>
                <p:cNvSpPr/>
                <p:nvPr/>
              </p:nvSpPr>
              <p:spPr>
                <a:xfrm>
                  <a:off x="3408480" y="2641320"/>
                  <a:ext cx="122580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81" name="组合 54"/>
              <p:cNvGrpSpPr/>
              <p:nvPr/>
            </p:nvGrpSpPr>
            <p:grpSpPr>
              <a:xfrm>
                <a:off x="3408480" y="5826240"/>
                <a:ext cx="3943080" cy="877680"/>
                <a:chOff x="3408480" y="5826240"/>
                <a:chExt cx="3943080" cy="877680"/>
              </a:xfrm>
            </p:grpSpPr>
            <p:grpSp>
              <p:nvGrpSpPr>
                <p:cNvPr id="982" name="组合 55"/>
                <p:cNvGrpSpPr/>
                <p:nvPr/>
              </p:nvGrpSpPr>
              <p:grpSpPr>
                <a:xfrm>
                  <a:off x="4634280" y="5826600"/>
                  <a:ext cx="1460520" cy="877320"/>
                  <a:chOff x="4634280" y="5826600"/>
                  <a:chExt cx="1460520" cy="877320"/>
                </a:xfrm>
              </p:grpSpPr>
              <p:sp>
                <p:nvSpPr>
                  <p:cNvPr id="983" name="菱形 58"/>
                  <p:cNvSpPr/>
                  <p:nvPr/>
                </p:nvSpPr>
                <p:spPr>
                  <a:xfrm flipV="1">
                    <a:off x="5121000" y="6116400"/>
                    <a:ext cx="491400" cy="58716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984" name="组合 59"/>
                  <p:cNvGrpSpPr/>
                  <p:nvPr/>
                </p:nvGrpSpPr>
                <p:grpSpPr>
                  <a:xfrm>
                    <a:off x="4634280" y="5826600"/>
                    <a:ext cx="486720" cy="290520"/>
                    <a:chOff x="4634280" y="5826600"/>
                    <a:chExt cx="486720" cy="290520"/>
                  </a:xfrm>
                </p:grpSpPr>
                <p:sp>
                  <p:nvSpPr>
                    <p:cNvPr id="985" name="直接连接符 66"/>
                    <p:cNvSpPr/>
                    <p:nvPr/>
                  </p:nvSpPr>
                  <p:spPr>
                    <a:xfrm>
                      <a:off x="4634280" y="582660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86" name="直接连接符 67"/>
                    <p:cNvSpPr/>
                    <p:nvPr/>
                  </p:nvSpPr>
                  <p:spPr>
                    <a:xfrm flipH="1">
                      <a:off x="4877640" y="582660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组合 60"/>
                  <p:cNvGrpSpPr/>
                  <p:nvPr/>
                </p:nvGrpSpPr>
                <p:grpSpPr>
                  <a:xfrm>
                    <a:off x="5121000" y="5826600"/>
                    <a:ext cx="486720" cy="290520"/>
                    <a:chOff x="5121000" y="5826600"/>
                    <a:chExt cx="486720" cy="290520"/>
                  </a:xfrm>
                </p:grpSpPr>
                <p:sp>
                  <p:nvSpPr>
                    <p:cNvPr id="988" name="直接连接符 64"/>
                    <p:cNvSpPr/>
                    <p:nvPr/>
                  </p:nvSpPr>
                  <p:spPr>
                    <a:xfrm>
                      <a:off x="5121000" y="582660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89" name="直接连接符 65"/>
                    <p:cNvSpPr/>
                    <p:nvPr/>
                  </p:nvSpPr>
                  <p:spPr>
                    <a:xfrm flipH="1">
                      <a:off x="5364360" y="582660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组合 61"/>
                  <p:cNvGrpSpPr/>
                  <p:nvPr/>
                </p:nvGrpSpPr>
                <p:grpSpPr>
                  <a:xfrm>
                    <a:off x="5608080" y="5826600"/>
                    <a:ext cx="486720" cy="290520"/>
                    <a:chOff x="5608080" y="5826600"/>
                    <a:chExt cx="486720" cy="290520"/>
                  </a:xfrm>
                </p:grpSpPr>
                <p:sp>
                  <p:nvSpPr>
                    <p:cNvPr id="991" name="直接连接符 62"/>
                    <p:cNvSpPr/>
                    <p:nvPr/>
                  </p:nvSpPr>
                  <p:spPr>
                    <a:xfrm>
                      <a:off x="5608080" y="582660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992" name="直接连接符 63"/>
                    <p:cNvSpPr/>
                    <p:nvPr/>
                  </p:nvSpPr>
                  <p:spPr>
                    <a:xfrm flipH="1">
                      <a:off x="5851440" y="5826600"/>
                      <a:ext cx="243360" cy="29052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93" name="直接连接符 56"/>
                <p:cNvSpPr/>
                <p:nvPr/>
              </p:nvSpPr>
              <p:spPr>
                <a:xfrm>
                  <a:off x="6094800" y="5826240"/>
                  <a:ext cx="125676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94" name="直接连接符 57"/>
                <p:cNvSpPr/>
                <p:nvPr/>
              </p:nvSpPr>
              <p:spPr>
                <a:xfrm>
                  <a:off x="3408480" y="5826240"/>
                  <a:ext cx="122580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995" name="矩形 2"/>
          <p:cNvSpPr/>
          <p:nvPr/>
        </p:nvSpPr>
        <p:spPr>
          <a:xfrm>
            <a:off x="1400040" y="1700280"/>
            <a:ext cx="9304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太空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C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计划”启动！火星模拟生存基地首次亮相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来源：央视新闻客户端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奇特的地形地貌、火红的岩体、险峻的山脉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……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这里不是火星地表，而是与火星地貌有着天然相似性的戈壁滩 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12</a:t>
            </a: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日  “太空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C</a:t>
            </a: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计划”在甘肃省金昌启动。位于甘肃戈壁滩上的火星模拟生存基地也首度公开亮相。生存基地里布置的所有舱体  都最大程度还原了火星场景，令人叹为观止！新建成的基地，包括气闸舱、总控舱、生物舱等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9</a:t>
            </a:r>
            <a:r>
              <a:rPr b="0" i="1" lang="zh-CN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个舱体，以及舱外场地。所有的舱体，都最大程度还原了火星场景。以生物舱为例，它主要模拟航天员登上火星之后，人工创造水、热、光、气等条件，培育植物和蛋白质虫，以供航天员使用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图片 75" descr=""/>
          <p:cNvPicPr/>
          <p:nvPr/>
        </p:nvPicPr>
        <p:blipFill>
          <a:blip r:embed="rId1"/>
          <a:stretch/>
        </p:blipFill>
        <p:spPr>
          <a:xfrm>
            <a:off x="0" y="620640"/>
            <a:ext cx="12192120" cy="6249960"/>
          </a:xfrm>
          <a:prstGeom prst="rect">
            <a:avLst/>
          </a:prstGeom>
          <a:ln w="0">
            <a:noFill/>
          </a:ln>
        </p:spPr>
      </p:pic>
      <p:pic>
        <p:nvPicPr>
          <p:cNvPr id="997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998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9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0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1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2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3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4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5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6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7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8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9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0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1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2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3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4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5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6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7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8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9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0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1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2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3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4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5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1026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1027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8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9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0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1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4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5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6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7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8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9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0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1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2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3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4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5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6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7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8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9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0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1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2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3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4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5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6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57" name="组合 78"/>
          <p:cNvGrpSpPr/>
          <p:nvPr/>
        </p:nvGrpSpPr>
        <p:grpSpPr>
          <a:xfrm>
            <a:off x="3359160" y="2712960"/>
            <a:ext cx="5448240" cy="1759680"/>
            <a:chOff x="3359160" y="2712960"/>
            <a:chExt cx="5448240" cy="1759680"/>
          </a:xfrm>
        </p:grpSpPr>
        <p:sp>
          <p:nvSpPr>
            <p:cNvPr id="1058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 u="sng">
                  <a:solidFill>
                    <a:srgbClr val="ffffff"/>
                  </a:solidFill>
                  <a:uFillTx/>
                  <a:latin typeface="Billboard"/>
                  <a:ea typeface="张海山锐谐体"/>
                </a:rPr>
                <a:t>POWERPOINT</a:t>
              </a:r>
              <a:endParaRPr b="0" i="1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59" name="文本框 77"/>
            <p:cNvSpPr/>
            <p:nvPr/>
          </p:nvSpPr>
          <p:spPr>
            <a:xfrm>
              <a:off x="5397120" y="3647160"/>
              <a:ext cx="136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ffff"/>
                  </a:solidFill>
                  <a:uFillTx/>
                  <a:latin typeface="张海山锐谐体"/>
                  <a:ea typeface="张海山锐谐体"/>
                </a:rPr>
                <a:t>YOUR  TITLE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60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1" name="文本框 80"/>
          <p:cNvSpPr/>
          <p:nvPr/>
        </p:nvSpPr>
        <p:spPr>
          <a:xfrm>
            <a:off x="2192400" y="2448000"/>
            <a:ext cx="79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Arial"/>
                <a:ea typeface="等线"/>
              </a:rPr>
              <a:t>文章开头为什么从古代神话谈起？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75" descr=""/>
          <p:cNvPicPr/>
          <p:nvPr/>
        </p:nvPicPr>
        <p:blipFill>
          <a:blip r:embed="rId1"/>
          <a:stretch/>
        </p:blipFill>
        <p:spPr>
          <a:xfrm>
            <a:off x="0" y="549360"/>
            <a:ext cx="12192120" cy="6321240"/>
          </a:xfrm>
          <a:prstGeom prst="rect">
            <a:avLst/>
          </a:prstGeom>
          <a:ln w="0">
            <a:noFill/>
          </a:ln>
        </p:spPr>
      </p:pic>
      <p:pic>
        <p:nvPicPr>
          <p:cNvPr id="1063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64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5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6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7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8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9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0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1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2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5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6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7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8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9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0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1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2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3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4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5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6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7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8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9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0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1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1092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1093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4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5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6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7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8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9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0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1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2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3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4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5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6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7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8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9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0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1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2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3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6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7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8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9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0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1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2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23" name="组合 78"/>
          <p:cNvGrpSpPr/>
          <p:nvPr/>
        </p:nvGrpSpPr>
        <p:grpSpPr>
          <a:xfrm>
            <a:off x="3359160" y="2712960"/>
            <a:ext cx="5448240" cy="1759680"/>
            <a:chOff x="3359160" y="2712960"/>
            <a:chExt cx="5448240" cy="1759680"/>
          </a:xfrm>
        </p:grpSpPr>
        <p:sp>
          <p:nvSpPr>
            <p:cNvPr id="1124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 u="sng">
                  <a:solidFill>
                    <a:srgbClr val="ffffff"/>
                  </a:solidFill>
                  <a:uFillTx/>
                  <a:latin typeface="Billboard"/>
                  <a:ea typeface="张海山锐谐体"/>
                </a:rPr>
                <a:t>POWERPOINT</a:t>
              </a:r>
              <a:endParaRPr b="0" i="1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25" name="文本框 77"/>
            <p:cNvSpPr/>
            <p:nvPr/>
          </p:nvSpPr>
          <p:spPr>
            <a:xfrm>
              <a:off x="5397120" y="3647160"/>
              <a:ext cx="136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ffffff"/>
                  </a:solidFill>
                  <a:uFillTx/>
                  <a:latin typeface="张海山锐谐体"/>
                  <a:ea typeface="张海山锐谐体"/>
                </a:rPr>
                <a:t>YOUR  TITLE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26" name="矩形 79"/>
          <p:cNvSpPr/>
          <p:nvPr/>
        </p:nvSpPr>
        <p:spPr>
          <a:xfrm>
            <a:off x="1600200" y="2185920"/>
            <a:ext cx="8991720" cy="225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7" name="文本框 80"/>
          <p:cNvSpPr/>
          <p:nvPr/>
        </p:nvSpPr>
        <p:spPr>
          <a:xfrm>
            <a:off x="2192400" y="2448000"/>
            <a:ext cx="85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等线"/>
              </a:rPr>
              <a:t>既能引出说明的话题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等线"/>
              </a:rPr>
              <a:t>又能激发读者的阅读兴趣。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0" y="692280"/>
            <a:ext cx="12192120" cy="6178320"/>
          </a:xfrm>
          <a:prstGeom prst="rect">
            <a:avLst/>
          </a:prstGeom>
          <a:ln w="0">
            <a:noFill/>
          </a:ln>
        </p:spPr>
      </p:pic>
      <p:grpSp>
        <p:nvGrpSpPr>
          <p:cNvPr id="1129" name="组合 3"/>
          <p:cNvGrpSpPr/>
          <p:nvPr/>
        </p:nvGrpSpPr>
        <p:grpSpPr>
          <a:xfrm>
            <a:off x="2208240" y="2335320"/>
            <a:ext cx="8677080" cy="2460600"/>
            <a:chOff x="2208240" y="2335320"/>
            <a:chExt cx="8677080" cy="2460600"/>
          </a:xfrm>
        </p:grpSpPr>
        <p:sp>
          <p:nvSpPr>
            <p:cNvPr id="1130" name="文本框 58"/>
            <p:cNvSpPr/>
            <p:nvPr/>
          </p:nvSpPr>
          <p:spPr>
            <a:xfrm>
              <a:off x="2752560" y="2813040"/>
              <a:ext cx="139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01</a:t>
              </a:r>
              <a:endParaRPr b="0" i="1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31" name="文本框 59"/>
            <p:cNvSpPr/>
            <p:nvPr/>
          </p:nvSpPr>
          <p:spPr>
            <a:xfrm>
              <a:off x="2208240" y="368244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更有趣的是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32" name="菱形 55"/>
            <p:cNvSpPr/>
            <p:nvPr/>
          </p:nvSpPr>
          <p:spPr>
            <a:xfrm>
              <a:off x="2219760" y="233532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33" name="文本框 62"/>
            <p:cNvSpPr/>
            <p:nvPr/>
          </p:nvSpPr>
          <p:spPr>
            <a:xfrm>
              <a:off x="7684560" y="2813040"/>
              <a:ext cx="139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02</a:t>
              </a:r>
              <a:endParaRPr b="0" i="1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34" name="文本框 65"/>
            <p:cNvSpPr/>
            <p:nvPr/>
          </p:nvSpPr>
          <p:spPr>
            <a:xfrm>
              <a:off x="7140240" y="368244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为了揭开火星神秘的面纱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35" name="菱形 66"/>
            <p:cNvSpPr/>
            <p:nvPr/>
          </p:nvSpPr>
          <p:spPr>
            <a:xfrm>
              <a:off x="7151760" y="233532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136" name="组合 6"/>
            <p:cNvGrpSpPr/>
            <p:nvPr/>
          </p:nvGrpSpPr>
          <p:grpSpPr>
            <a:xfrm>
              <a:off x="2718720" y="3525480"/>
              <a:ext cx="1450080" cy="79920"/>
              <a:chOff x="2718720" y="3525480"/>
              <a:chExt cx="1450080" cy="79920"/>
            </a:xfrm>
          </p:grpSpPr>
          <p:sp>
            <p:nvSpPr>
              <p:cNvPr id="1137" name="椭圆 38"/>
              <p:cNvSpPr/>
              <p:nvPr/>
            </p:nvSpPr>
            <p:spPr>
              <a:xfrm flipV="1">
                <a:off x="3409920" y="352548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138" name="组合 5"/>
              <p:cNvGrpSpPr/>
              <p:nvPr/>
            </p:nvGrpSpPr>
            <p:grpSpPr>
              <a:xfrm>
                <a:off x="2718720" y="3569040"/>
                <a:ext cx="1450080" cy="0"/>
                <a:chOff x="2718720" y="3569040"/>
                <a:chExt cx="1450080" cy="0"/>
              </a:xfrm>
            </p:grpSpPr>
            <p:sp>
              <p:nvSpPr>
                <p:cNvPr id="1139" name="直接连接符 36"/>
                <p:cNvSpPr/>
                <p:nvPr/>
              </p:nvSpPr>
              <p:spPr>
                <a:xfrm>
                  <a:off x="2718720" y="356904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140" name="直接连接符 42"/>
                <p:cNvSpPr/>
                <p:nvPr/>
              </p:nvSpPr>
              <p:spPr>
                <a:xfrm>
                  <a:off x="3620520" y="356904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141" name="组合 64"/>
            <p:cNvGrpSpPr/>
            <p:nvPr/>
          </p:nvGrpSpPr>
          <p:grpSpPr>
            <a:xfrm>
              <a:off x="7648920" y="3525480"/>
              <a:ext cx="1450080" cy="79920"/>
              <a:chOff x="7648920" y="3525480"/>
              <a:chExt cx="1450080" cy="79920"/>
            </a:xfrm>
          </p:grpSpPr>
          <p:sp>
            <p:nvSpPr>
              <p:cNvPr id="1142" name="椭圆 70"/>
              <p:cNvSpPr/>
              <p:nvPr/>
            </p:nvSpPr>
            <p:spPr>
              <a:xfrm flipV="1">
                <a:off x="8340120" y="352548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143" name="组合 71"/>
              <p:cNvGrpSpPr/>
              <p:nvPr/>
            </p:nvGrpSpPr>
            <p:grpSpPr>
              <a:xfrm>
                <a:off x="7648920" y="3569040"/>
                <a:ext cx="1450080" cy="0"/>
                <a:chOff x="7648920" y="3569040"/>
                <a:chExt cx="1450080" cy="0"/>
              </a:xfrm>
            </p:grpSpPr>
            <p:sp>
              <p:nvSpPr>
                <p:cNvPr id="1144" name="直接连接符 77"/>
                <p:cNvSpPr/>
                <p:nvPr/>
              </p:nvSpPr>
              <p:spPr>
                <a:xfrm>
                  <a:off x="7648920" y="356904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145" name="直接连接符 78"/>
                <p:cNvSpPr/>
                <p:nvPr/>
              </p:nvSpPr>
              <p:spPr>
                <a:xfrm>
                  <a:off x="8550720" y="356904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146" name="椭圆 86"/>
            <p:cNvSpPr/>
            <p:nvPr/>
          </p:nvSpPr>
          <p:spPr>
            <a:xfrm flipV="1">
              <a:off x="10805400" y="3525480"/>
              <a:ext cx="79920" cy="7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147" name="组合 2"/>
          <p:cNvGrpSpPr/>
          <p:nvPr/>
        </p:nvGrpSpPr>
        <p:grpSpPr>
          <a:xfrm>
            <a:off x="824040" y="1379520"/>
            <a:ext cx="10242360" cy="3925800"/>
            <a:chOff x="824040" y="1379520"/>
            <a:chExt cx="10242360" cy="3925800"/>
          </a:xfrm>
        </p:grpSpPr>
        <p:sp>
          <p:nvSpPr>
            <p:cNvPr id="1148" name="文本框 90"/>
            <p:cNvSpPr/>
            <p:nvPr/>
          </p:nvSpPr>
          <p:spPr>
            <a:xfrm>
              <a:off x="4753080" y="1379520"/>
              <a:ext cx="249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类似的字词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149" name="组合 106"/>
            <p:cNvGrpSpPr/>
            <p:nvPr/>
          </p:nvGrpSpPr>
          <p:grpSpPr>
            <a:xfrm>
              <a:off x="824040" y="5229360"/>
              <a:ext cx="10242360" cy="75960"/>
              <a:chOff x="824040" y="5229360"/>
              <a:chExt cx="10242360" cy="75960"/>
            </a:xfrm>
          </p:grpSpPr>
          <p:sp>
            <p:nvSpPr>
              <p:cNvPr id="1150" name="直接连接符 107"/>
              <p:cNvSpPr/>
              <p:nvPr/>
            </p:nvSpPr>
            <p:spPr>
              <a:xfrm>
                <a:off x="824040" y="5229360"/>
                <a:ext cx="1024236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51" name="直接连接符 108"/>
              <p:cNvSpPr/>
              <p:nvPr/>
            </p:nvSpPr>
            <p:spPr>
              <a:xfrm>
                <a:off x="824040" y="5305320"/>
                <a:ext cx="1024236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52" name="组合 74"/>
            <p:cNvGrpSpPr/>
            <p:nvPr/>
          </p:nvGrpSpPr>
          <p:grpSpPr>
            <a:xfrm>
              <a:off x="824040" y="1580760"/>
              <a:ext cx="3649680" cy="75960"/>
              <a:chOff x="824040" y="1580760"/>
              <a:chExt cx="3649680" cy="75960"/>
            </a:xfrm>
          </p:grpSpPr>
          <p:sp>
            <p:nvSpPr>
              <p:cNvPr id="1153" name="直接连接符 80"/>
              <p:cNvSpPr/>
              <p:nvPr/>
            </p:nvSpPr>
            <p:spPr>
              <a:xfrm>
                <a:off x="8240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54" name="直接连接符 81"/>
              <p:cNvSpPr/>
              <p:nvPr/>
            </p:nvSpPr>
            <p:spPr>
              <a:xfrm>
                <a:off x="8240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55" name="组合 82"/>
            <p:cNvGrpSpPr/>
            <p:nvPr/>
          </p:nvGrpSpPr>
          <p:grpSpPr>
            <a:xfrm>
              <a:off x="7416720" y="1580760"/>
              <a:ext cx="3649680" cy="75960"/>
              <a:chOff x="7416720" y="1580760"/>
              <a:chExt cx="3649680" cy="75960"/>
            </a:xfrm>
          </p:grpSpPr>
          <p:sp>
            <p:nvSpPr>
              <p:cNvPr id="1156" name="直接连接符 83"/>
              <p:cNvSpPr/>
              <p:nvPr/>
            </p:nvSpPr>
            <p:spPr>
              <a:xfrm>
                <a:off x="741672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57" name="直接连接符 84"/>
              <p:cNvSpPr/>
              <p:nvPr/>
            </p:nvSpPr>
            <p:spPr>
              <a:xfrm>
                <a:off x="741672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3" dur="12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图片 1" descr=""/>
          <p:cNvPicPr/>
          <p:nvPr/>
        </p:nvPicPr>
        <p:blipFill>
          <a:blip r:embed="rId1"/>
          <a:stretch/>
        </p:blipFill>
        <p:spPr>
          <a:xfrm>
            <a:off x="0" y="692280"/>
            <a:ext cx="12192120" cy="6178320"/>
          </a:xfrm>
          <a:prstGeom prst="rect">
            <a:avLst/>
          </a:prstGeom>
          <a:ln w="0">
            <a:noFill/>
          </a:ln>
        </p:spPr>
      </p:pic>
      <p:grpSp>
        <p:nvGrpSpPr>
          <p:cNvPr id="1159" name="组合 5"/>
          <p:cNvGrpSpPr/>
          <p:nvPr/>
        </p:nvGrpSpPr>
        <p:grpSpPr>
          <a:xfrm>
            <a:off x="3738600" y="968400"/>
            <a:ext cx="4651200" cy="4795560"/>
            <a:chOff x="3738600" y="968400"/>
            <a:chExt cx="4651200" cy="4795560"/>
          </a:xfrm>
        </p:grpSpPr>
        <p:sp>
          <p:nvSpPr>
            <p:cNvPr id="1160" name="文本框 71"/>
            <p:cNvSpPr/>
            <p:nvPr/>
          </p:nvSpPr>
          <p:spPr>
            <a:xfrm>
              <a:off x="3738600" y="3849840"/>
              <a:ext cx="4651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《</a:t>
              </a:r>
              <a:r>
                <a:rPr b="0" i="1" lang="zh-CN" sz="54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松鼠</a:t>
              </a:r>
              <a:r>
                <a:rPr b="0" i="1" lang="en-US" sz="5400" spc="-1" strike="noStrike" u="sng">
                  <a:solidFill>
                    <a:srgbClr val="ffffff"/>
                  </a:solidFill>
                  <a:uFillTx/>
                  <a:latin typeface="微软雅黑"/>
                  <a:ea typeface="微软雅黑"/>
                </a:rPr>
                <a:t>》</a:t>
              </a:r>
              <a:endParaRPr b="0" i="1" lang="en-US" sz="5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161" name="组合 88"/>
            <p:cNvGrpSpPr/>
            <p:nvPr/>
          </p:nvGrpSpPr>
          <p:grpSpPr>
            <a:xfrm>
              <a:off x="3786120" y="3430440"/>
              <a:ext cx="4595400" cy="79920"/>
              <a:chOff x="3786120" y="3430440"/>
              <a:chExt cx="4595400" cy="79920"/>
            </a:xfrm>
          </p:grpSpPr>
          <p:sp>
            <p:nvSpPr>
              <p:cNvPr id="1162" name="椭圆 68"/>
              <p:cNvSpPr/>
              <p:nvPr/>
            </p:nvSpPr>
            <p:spPr>
              <a:xfrm flipV="1">
                <a:off x="602424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63" name="直接连接符 72"/>
              <p:cNvSpPr/>
              <p:nvPr/>
            </p:nvSpPr>
            <p:spPr>
              <a:xfrm>
                <a:off x="3786120" y="3458160"/>
                <a:ext cx="20761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64" name="直接连接符 87"/>
              <p:cNvSpPr/>
              <p:nvPr/>
            </p:nvSpPr>
            <p:spPr>
              <a:xfrm>
                <a:off x="6273000" y="3458160"/>
                <a:ext cx="21085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65" name="组合 28"/>
            <p:cNvGrpSpPr/>
            <p:nvPr/>
          </p:nvGrpSpPr>
          <p:grpSpPr>
            <a:xfrm>
              <a:off x="3753360" y="968400"/>
              <a:ext cx="4569840" cy="4795560"/>
              <a:chOff x="3753360" y="968400"/>
              <a:chExt cx="4569840" cy="4795560"/>
            </a:xfrm>
          </p:grpSpPr>
          <p:grpSp>
            <p:nvGrpSpPr>
              <p:cNvPr id="1166" name="组合 6"/>
              <p:cNvGrpSpPr/>
              <p:nvPr/>
            </p:nvGrpSpPr>
            <p:grpSpPr>
              <a:xfrm>
                <a:off x="3753360" y="968400"/>
                <a:ext cx="4569840" cy="852120"/>
                <a:chOff x="3753360" y="968400"/>
                <a:chExt cx="4569840" cy="852120"/>
              </a:xfrm>
            </p:grpSpPr>
            <p:grpSp>
              <p:nvGrpSpPr>
                <p:cNvPr id="1167" name="组合 15"/>
                <p:cNvGrpSpPr/>
                <p:nvPr/>
              </p:nvGrpSpPr>
              <p:grpSpPr>
                <a:xfrm>
                  <a:off x="5173920" y="968400"/>
                  <a:ext cx="1692000" cy="852120"/>
                  <a:chOff x="5173920" y="968400"/>
                  <a:chExt cx="1692000" cy="852120"/>
                </a:xfrm>
              </p:grpSpPr>
              <p:sp>
                <p:nvSpPr>
                  <p:cNvPr id="1168" name="菱形 2"/>
                  <p:cNvSpPr/>
                  <p:nvPr/>
                </p:nvSpPr>
                <p:spPr>
                  <a:xfrm>
                    <a:off x="573804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169" name="组合 8"/>
                  <p:cNvGrpSpPr/>
                  <p:nvPr/>
                </p:nvGrpSpPr>
                <p:grpSpPr>
                  <a:xfrm>
                    <a:off x="5173920" y="1538280"/>
                    <a:ext cx="563760" cy="282240"/>
                    <a:chOff x="5173920" y="1538280"/>
                    <a:chExt cx="563760" cy="282240"/>
                  </a:xfrm>
                </p:grpSpPr>
                <p:sp>
                  <p:nvSpPr>
                    <p:cNvPr id="1170" name="直接连接符 4"/>
                    <p:cNvSpPr/>
                    <p:nvPr/>
                  </p:nvSpPr>
                  <p:spPr>
                    <a:xfrm flipV="1">
                      <a:off x="517392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171" name="直接连接符 7"/>
                    <p:cNvSpPr/>
                    <p:nvPr/>
                  </p:nvSpPr>
                  <p:spPr>
                    <a:xfrm flipH="1" flipV="1">
                      <a:off x="545580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2" name="组合 9"/>
                  <p:cNvGrpSpPr/>
                  <p:nvPr/>
                </p:nvGrpSpPr>
                <p:grpSpPr>
                  <a:xfrm>
                    <a:off x="5738040" y="1538280"/>
                    <a:ext cx="563760" cy="282240"/>
                    <a:chOff x="5738040" y="1538280"/>
                    <a:chExt cx="563760" cy="282240"/>
                  </a:xfrm>
                </p:grpSpPr>
                <p:sp>
                  <p:nvSpPr>
                    <p:cNvPr id="1173" name="直接连接符 10"/>
                    <p:cNvSpPr/>
                    <p:nvPr/>
                  </p:nvSpPr>
                  <p:spPr>
                    <a:xfrm flipV="1">
                      <a:off x="57380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174" name="直接连接符 11"/>
                    <p:cNvSpPr/>
                    <p:nvPr/>
                  </p:nvSpPr>
                  <p:spPr>
                    <a:xfrm flipH="1" flipV="1">
                      <a:off x="60199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5" name="组合 12"/>
                  <p:cNvGrpSpPr/>
                  <p:nvPr/>
                </p:nvGrpSpPr>
                <p:grpSpPr>
                  <a:xfrm>
                    <a:off x="6302160" y="1538280"/>
                    <a:ext cx="563760" cy="282240"/>
                    <a:chOff x="6302160" y="1538280"/>
                    <a:chExt cx="563760" cy="282240"/>
                  </a:xfrm>
                </p:grpSpPr>
                <p:sp>
                  <p:nvSpPr>
                    <p:cNvPr id="1176" name="直接连接符 13"/>
                    <p:cNvSpPr/>
                    <p:nvPr/>
                  </p:nvSpPr>
                  <p:spPr>
                    <a:xfrm flipV="1">
                      <a:off x="63021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177" name="直接连接符 14"/>
                    <p:cNvSpPr/>
                    <p:nvPr/>
                  </p:nvSpPr>
                  <p:spPr>
                    <a:xfrm flipH="1" flipV="1">
                      <a:off x="65840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8" name="直接连接符 31"/>
                <p:cNvSpPr/>
                <p:nvPr/>
              </p:nvSpPr>
              <p:spPr>
                <a:xfrm>
                  <a:off x="6866640" y="1820520"/>
                  <a:ext cx="145656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179" name="直接连接符 33"/>
                <p:cNvSpPr/>
                <p:nvPr/>
              </p:nvSpPr>
              <p:spPr>
                <a:xfrm>
                  <a:off x="3753360" y="1820520"/>
                  <a:ext cx="142056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180" name="组合 54"/>
              <p:cNvGrpSpPr/>
              <p:nvPr/>
            </p:nvGrpSpPr>
            <p:grpSpPr>
              <a:xfrm>
                <a:off x="3753360" y="4911840"/>
                <a:ext cx="4569840" cy="852120"/>
                <a:chOff x="3753360" y="4911840"/>
                <a:chExt cx="4569840" cy="852120"/>
              </a:xfrm>
            </p:grpSpPr>
            <p:grpSp>
              <p:nvGrpSpPr>
                <p:cNvPr id="1181" name="组合 55"/>
                <p:cNvGrpSpPr/>
                <p:nvPr/>
              </p:nvGrpSpPr>
              <p:grpSpPr>
                <a:xfrm>
                  <a:off x="5173920" y="4911840"/>
                  <a:ext cx="1692000" cy="852120"/>
                  <a:chOff x="5173920" y="4911840"/>
                  <a:chExt cx="1692000" cy="852120"/>
                </a:xfrm>
              </p:grpSpPr>
              <p:sp>
                <p:nvSpPr>
                  <p:cNvPr id="1182" name="菱形 58"/>
                  <p:cNvSpPr/>
                  <p:nvPr/>
                </p:nvSpPr>
                <p:spPr>
                  <a:xfrm flipV="1">
                    <a:off x="573804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183" name="组合 59"/>
                  <p:cNvGrpSpPr/>
                  <p:nvPr/>
                </p:nvGrpSpPr>
                <p:grpSpPr>
                  <a:xfrm>
                    <a:off x="5173920" y="4911840"/>
                    <a:ext cx="563760" cy="282240"/>
                    <a:chOff x="5173920" y="4911840"/>
                    <a:chExt cx="563760" cy="282240"/>
                  </a:xfrm>
                </p:grpSpPr>
                <p:sp>
                  <p:nvSpPr>
                    <p:cNvPr id="1184" name="直接连接符 66"/>
                    <p:cNvSpPr/>
                    <p:nvPr/>
                  </p:nvSpPr>
                  <p:spPr>
                    <a:xfrm>
                      <a:off x="517392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185" name="直接连接符 67"/>
                    <p:cNvSpPr/>
                    <p:nvPr/>
                  </p:nvSpPr>
                  <p:spPr>
                    <a:xfrm flipH="1">
                      <a:off x="545580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6" name="组合 60"/>
                  <p:cNvGrpSpPr/>
                  <p:nvPr/>
                </p:nvGrpSpPr>
                <p:grpSpPr>
                  <a:xfrm>
                    <a:off x="5738040" y="4911840"/>
                    <a:ext cx="563760" cy="282240"/>
                    <a:chOff x="5738040" y="4911840"/>
                    <a:chExt cx="563760" cy="282240"/>
                  </a:xfrm>
                </p:grpSpPr>
                <p:sp>
                  <p:nvSpPr>
                    <p:cNvPr id="1187" name="直接连接符 64"/>
                    <p:cNvSpPr/>
                    <p:nvPr/>
                  </p:nvSpPr>
                  <p:spPr>
                    <a:xfrm>
                      <a:off x="57380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188" name="直接连接符 65"/>
                    <p:cNvSpPr/>
                    <p:nvPr/>
                  </p:nvSpPr>
                  <p:spPr>
                    <a:xfrm flipH="1">
                      <a:off x="60199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9" name="组合 61"/>
                  <p:cNvGrpSpPr/>
                  <p:nvPr/>
                </p:nvGrpSpPr>
                <p:grpSpPr>
                  <a:xfrm>
                    <a:off x="6302160" y="4911840"/>
                    <a:ext cx="563760" cy="282240"/>
                    <a:chOff x="6302160" y="4911840"/>
                    <a:chExt cx="563760" cy="282240"/>
                  </a:xfrm>
                </p:grpSpPr>
                <p:sp>
                  <p:nvSpPr>
                    <p:cNvPr id="1190" name="直接连接符 62"/>
                    <p:cNvSpPr/>
                    <p:nvPr/>
                  </p:nvSpPr>
                  <p:spPr>
                    <a:xfrm>
                      <a:off x="63021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191" name="直接连接符 63"/>
                    <p:cNvSpPr/>
                    <p:nvPr/>
                  </p:nvSpPr>
                  <p:spPr>
                    <a:xfrm flipH="1">
                      <a:off x="65840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92" name="直接连接符 56"/>
                <p:cNvSpPr/>
                <p:nvPr/>
              </p:nvSpPr>
              <p:spPr>
                <a:xfrm>
                  <a:off x="6866640" y="4911840"/>
                  <a:ext cx="145656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193" name="直接连接符 57"/>
                <p:cNvSpPr/>
                <p:nvPr/>
              </p:nvSpPr>
              <p:spPr>
                <a:xfrm>
                  <a:off x="3753360" y="4911840"/>
                  <a:ext cx="142056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5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矩形 1"/>
          <p:cNvSpPr/>
          <p:nvPr/>
        </p:nvSpPr>
        <p:spPr>
          <a:xfrm>
            <a:off x="912960" y="981000"/>
            <a:ext cx="108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松鼠不躲藏在地底下，经常在高处活动，像飞鸟一样住在树顶上，满树林里跑，从这棵树跳到那棵树。它们在树上做窝，摘果实，喝露水，只有树被风刮得太厉害了，才到地上来。在平原地区是很少看到松鼠的。它们不接近人的住宅，也不待在小树丛里，只喜欢住在高大的老树上。在晴朗的夏夜，可以听到松鼠在树上跳着叫着，互相追逐。它们好像很怕强烈的日光，白天躲在窝里歇凉，晚上出来奔跑，玩耍，吃东西。</a:t>
            </a:r>
            <a:br>
              <a:rPr sz="2000"/>
            </a:b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松鼠不爱下水。有人说，松鼠横渡溪流的时候，用一块树皮当作船，用自己的尾巴当作帆和舵。松鼠不像山鼠那样，一到冬天就蛰伏不动。它们是十分警觉的，只要有人触动一下松鼠所在的大树，它们就从树上的窝里跑出来躲到树枝底下，或者逃到别的树上去。松鼠在秋天拾榛子，塞到老树空心的缝隙里，塞得满满的，留到冬天吃。在冬天，它们也常用爪子把雪扒开，在雪下面找榛子。松鼠轻快极了，总是小跳着前进，有时也连蹦带跑。它们的爪子是那样锐利，动作是那样敏捷，一棵很光滑的高树，一忽儿就爬上去了。松鼠的叫声很响亮，比黄鼠狼的叫声还要尖些。要是被惹恼了，还会发出一种很不高兴的恨恨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5" name="文本框 71"/>
          <p:cNvSpPr/>
          <p:nvPr/>
        </p:nvSpPr>
        <p:spPr>
          <a:xfrm>
            <a:off x="3805200" y="58680"/>
            <a:ext cx="617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《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松鼠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》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（节选）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2" descr="星空7"/>
          <p:cNvPicPr/>
          <p:nvPr/>
        </p:nvPicPr>
        <p:blipFill>
          <a:blip r:embed="rId1"/>
          <a:stretch/>
        </p:blipFill>
        <p:spPr>
          <a:xfrm>
            <a:off x="0" y="836640"/>
            <a:ext cx="12192120" cy="6032520"/>
          </a:xfrm>
          <a:prstGeom prst="rect">
            <a:avLst/>
          </a:prstGeom>
          <a:ln w="0">
            <a:noFill/>
          </a:ln>
        </p:spPr>
      </p:pic>
      <p:sp>
        <p:nvSpPr>
          <p:cNvPr id="1197" name="矩形 1"/>
          <p:cNvSpPr/>
          <p:nvPr/>
        </p:nvSpPr>
        <p:spPr>
          <a:xfrm>
            <a:off x="766800" y="3429000"/>
            <a:ext cx="1022508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2f2f2"/>
                </a:solidFill>
                <a:uFillTx/>
                <a:latin typeface="Arial"/>
                <a:ea typeface="宋体"/>
              </a:rPr>
              <a:t>你认为太空中有生命存在吗？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银河系"/>
          <p:cNvPicPr/>
          <p:nvPr/>
        </p:nvPicPr>
        <p:blipFill>
          <a:blip r:embed="rId1"/>
          <a:stretch/>
        </p:blipFill>
        <p:spPr>
          <a:xfrm>
            <a:off x="2208240" y="808200"/>
            <a:ext cx="8064360" cy="6049800"/>
          </a:xfrm>
          <a:prstGeom prst="rect">
            <a:avLst/>
          </a:prstGeom>
          <a:ln w="0">
            <a:noFill/>
          </a:ln>
        </p:spPr>
      </p:pic>
      <p:sp>
        <p:nvSpPr>
          <p:cNvPr id="579" name="WordArt 4"/>
          <p:cNvSpPr txBox="1"/>
          <p:nvPr/>
        </p:nvSpPr>
        <p:spPr>
          <a:xfrm>
            <a:off x="1992240" y="446040"/>
            <a:ext cx="244800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银河系</a:t>
            </a:r>
            <a:endParaRPr b="1" i="1" lang="en-US" sz="4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椭圆 33"/>
          <p:cNvSpPr/>
          <p:nvPr/>
        </p:nvSpPr>
        <p:spPr>
          <a:xfrm>
            <a:off x="5516640" y="2492280"/>
            <a:ext cx="1162080" cy="116388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06466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9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0" name="等腰三角形 10"/>
          <p:cNvSpPr/>
          <p:nvPr/>
        </p:nvSpPr>
        <p:spPr>
          <a:xfrm rot="16200000">
            <a:off x="1931040" y="234504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1" name="等腰三角形 11"/>
          <p:cNvSpPr/>
          <p:nvPr/>
        </p:nvSpPr>
        <p:spPr>
          <a:xfrm rot="10800000">
            <a:off x="1064880" y="1536840"/>
            <a:ext cx="1359000" cy="117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2" name="矩形 12"/>
          <p:cNvSpPr/>
          <p:nvPr/>
        </p:nvSpPr>
        <p:spPr>
          <a:xfrm>
            <a:off x="932040" y="1838160"/>
            <a:ext cx="150012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2f2f2"/>
                </a:solidFill>
                <a:uFillTx/>
                <a:latin typeface="微软雅黑"/>
                <a:ea typeface="微软雅黑"/>
              </a:rPr>
              <a:t>作业布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3" name="矩形 27"/>
          <p:cNvSpPr/>
          <p:nvPr/>
        </p:nvSpPr>
        <p:spPr>
          <a:xfrm>
            <a:off x="2233440" y="4108320"/>
            <a:ext cx="83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262626"/>
                </a:solidFill>
                <a:uFillTx/>
                <a:latin typeface="Arial"/>
                <a:ea typeface="宋体"/>
              </a:rPr>
              <a:t>.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4" name="椭圆 13"/>
          <p:cNvSpPr/>
          <p:nvPr/>
        </p:nvSpPr>
        <p:spPr>
          <a:xfrm>
            <a:off x="7682040" y="2482920"/>
            <a:ext cx="1162080" cy="116208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05" name="组 4" descr=""/>
          <p:cNvPicPr/>
          <p:nvPr/>
        </p:nvPicPr>
        <p:blipFill>
          <a:blip r:embed="rId1"/>
          <a:stretch/>
        </p:blipFill>
        <p:spPr>
          <a:xfrm>
            <a:off x="3516480" y="2530440"/>
            <a:ext cx="869760" cy="1184400"/>
          </a:xfrm>
          <a:prstGeom prst="rect">
            <a:avLst/>
          </a:prstGeom>
          <a:ln w="0">
            <a:noFill/>
          </a:ln>
        </p:spPr>
      </p:pic>
      <p:pic>
        <p:nvPicPr>
          <p:cNvPr id="1206" name="组合 28" descr=""/>
          <p:cNvPicPr/>
          <p:nvPr/>
        </p:nvPicPr>
        <p:blipFill>
          <a:blip r:embed="rId2"/>
          <a:stretch/>
        </p:blipFill>
        <p:spPr>
          <a:xfrm>
            <a:off x="5683320" y="2664000"/>
            <a:ext cx="823680" cy="796680"/>
          </a:xfrm>
          <a:prstGeom prst="rect">
            <a:avLst/>
          </a:prstGeom>
          <a:ln w="0">
            <a:noFill/>
          </a:ln>
        </p:spPr>
      </p:pic>
      <p:sp>
        <p:nvSpPr>
          <p:cNvPr id="1207" name="Freeform 183"/>
          <p:cNvSpPr/>
          <p:nvPr/>
        </p:nvSpPr>
        <p:spPr>
          <a:xfrm>
            <a:off x="8001000" y="2685960"/>
            <a:ext cx="74772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8" name="矩形 1"/>
          <p:cNvSpPr/>
          <p:nvPr/>
        </p:nvSpPr>
        <p:spPr>
          <a:xfrm>
            <a:off x="2449440" y="4125960"/>
            <a:ext cx="81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等线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等线"/>
                <a:ea typeface="等线"/>
              </a:rPr>
              <a:t>积累字词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等线"/>
                <a:ea typeface="宋体"/>
              </a:rPr>
              <a:t>2.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等线"/>
              </a:rPr>
              <a:t>进一步寻找有关于“宇宙中是否存在生命”的相关信息，做成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等线"/>
              </a:rPr>
              <a:t>PPT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等线"/>
              </a:rPr>
              <a:t>，向大家展示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11750621675563171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5920" y="763560"/>
            <a:ext cx="3851280" cy="583416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6037200" y="1484280"/>
            <a:ext cx="47181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银河系是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地球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和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太阳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所属的星系。因其主体部分投影在天球上的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亮带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被我国称为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银河</a:t>
            </a: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而得名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 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太阳系"/>
          <p:cNvPicPr/>
          <p:nvPr/>
        </p:nvPicPr>
        <p:blipFill>
          <a:blip r:embed="rId1"/>
          <a:stretch/>
        </p:blipFill>
        <p:spPr>
          <a:xfrm>
            <a:off x="2208240" y="795240"/>
            <a:ext cx="7850160" cy="60627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2063880" y="6206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太阳系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64b396b65b1c444b8ad4b291"/>
          <p:cNvPicPr/>
          <p:nvPr/>
        </p:nvPicPr>
        <p:blipFill>
          <a:blip r:embed="rId1"/>
          <a:stretch/>
        </p:blipFill>
        <p:spPr>
          <a:xfrm>
            <a:off x="1847880" y="836640"/>
            <a:ext cx="8883720" cy="602136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774440" y="5373360"/>
            <a:ext cx="92106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已经了解了太阳系是以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太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颗恒星为中心的，由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行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卫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矮行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天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包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小行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彗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等组成的一个天体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837efe48def930be83025c1c"/>
          <p:cNvPicPr/>
          <p:nvPr/>
        </p:nvPicPr>
        <p:blipFill>
          <a:blip r:embed="rId1"/>
          <a:stretch/>
        </p:blipFill>
        <p:spPr>
          <a:xfrm>
            <a:off x="1487520" y="836640"/>
            <a:ext cx="9145440" cy="602136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422360" y="5159520"/>
            <a:ext cx="9245520" cy="169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观察到的天空中的星星大多数也是和太阳一样发光发热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恒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它们有的也会组成类似太阳系一样的天体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xiannvzuo"/>
          <p:cNvPicPr/>
          <p:nvPr/>
        </p:nvPicPr>
        <p:blipFill>
          <a:blip r:embed="rId1"/>
          <a:stretch/>
        </p:blipFill>
        <p:spPr>
          <a:xfrm>
            <a:off x="1558800" y="69228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1558440" y="5373720"/>
            <a:ext cx="91458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们发现银河系以外还有类似银河系一样庞大的恒星集团。比如：仙女座星系、猎犬座星系，目前人类已经发现了超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亿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河外星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00Z</dcterms:created>
  <dc:creator/>
  <dc:description/>
  <dc:language>en-US</dc:language>
  <cp:lastModifiedBy>万润仪器贸易公司</cp:lastModifiedBy>
  <dcterms:modified xsi:type="dcterms:W3CDTF">2020-08-24T08:42:51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